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2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5527-DF34-42A9-BA8D-76F7EB99D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71E1-0FF5-4CC2-9D17-3AF230DD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58C9-E8D3-41FF-BA66-EE3DADDE1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E53C-A44A-432B-AF78-AF8E2E633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AC229-037A-4D37-93B3-0E7867519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51CE-638F-4075-85F2-1E0D0D46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E4C14-C685-49B1-82FA-C6A33377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5F22-3712-4595-806B-84C3EC1A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49965-B030-4859-B08B-565C0063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75A98-943B-47F9-BDA7-6684B585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760E-2521-445E-BF7B-1757E21F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3194-F92C-4FB5-91D7-1AC2A791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D6A8-C175-4943-8AB4-FC5FF223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06B1-AF5E-4BF8-B249-2798EED5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24BE-9F15-4D92-8798-995DF443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2E32-8F96-4CD2-A5B1-6E1B1C060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84F1-7C46-4EAD-B011-F597A2F41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1EE1D-9591-4A56-BB6A-BDDAEDCFE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B4C24-A3CA-463A-A946-7C080CE3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5A181-E4F7-48F4-9626-E60F6E15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0C7C4-E54C-46EE-BC37-2A5B0D20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DE7A2-E9F9-45EE-8DC0-68084621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6919-7DEE-4DE9-8877-763379B9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B05C6-176C-4071-901B-E937D81C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643EF-FBBF-4647-B255-8DDE9BDF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8A2A0-E7F3-41A0-A82A-FFD64610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67755-F121-4349-B47A-CD82D658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EA4EA-0172-4908-81B6-0D97D0E9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C6803-A73B-4C03-B851-DA211C5A2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F7561-28EE-49BF-8C46-FB103DEFE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B59FA-CA18-48E0-8A1B-FFC09FD44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B8800-768A-4847-901B-9D7A19D7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5C9B3-213F-44A0-A079-6183D7B5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3805-C2E7-481C-87E5-214E9959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36C46-29BC-430B-971F-7745523C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501C0-9ED3-4160-9D2C-41379C14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756F4-28B5-4832-A07E-76A19737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A332A-BED9-4CE1-A426-DDCD5E73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8A728-61BE-424A-9BA8-E1A3AA06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2E590-505B-4B1F-8C50-FA2227EC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4AF6E-0F1E-4A3B-A196-3020ABE0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1936A-254B-4139-AE87-16C946C64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C65D8-1B64-4A3C-8A10-9AB6D4D0B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3E6F2-BC18-4751-9F18-798484487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43BE-EBAD-40D8-B1DA-C9CC7D7D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C191D-598A-4393-9578-D529D89F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135BF-CD47-4258-BE06-078F9827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26316-51AE-4AC6-8F64-59F9E631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8D6F5-41F2-49EF-B974-FD4E4580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70494-F87B-47C7-8B11-CA74FCFD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AD718-CE81-40C7-AFDA-13C9696C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2126C-CC82-4924-819A-22CBD9EF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99F40-37BE-462A-83AE-C7E1AEE1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78774-97EF-427E-AB92-6F1220F7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28D1E-5EEC-457C-8673-39B9D491A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77DF-0970-46B3-A72E-4358E43E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E77FA-CD93-4F45-B8B9-F712AC5D6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48BF7-0084-4B25-8F4E-195C0EF38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C2C5E-5833-4AA2-9162-1091AFD1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7B478-74BE-45A2-9F3A-952E5F47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1F52E-A1CF-4745-8272-4163B714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CDF58-9C44-4538-8259-04530209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9865C-FE2A-48B9-B49C-778936F6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FC9D0-6553-4BCF-B202-AB077F3B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A6ED0-BF04-46D9-AF9E-E06FE0D0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E23A4-3722-4958-9ECB-343985C7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B41E-C0A7-4745-AE67-A1C00C19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D80FA-6B4B-4F78-A2BE-0A21016B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FF257-DBC3-4888-81A0-7973EE34C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0CB0F-A9D0-4252-AE84-ED69851F6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5CA92-A028-491F-B512-3ABD17B2A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72D40-0A8E-497D-83B6-34A104FC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38E54-C2C3-409B-BAA5-32EA4760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30F69-7E9F-46B9-9D89-BA4E7CB0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B9C8F-EA20-4D40-AE54-89D7D728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FBEEF-FCD7-4583-8E20-BCA18455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A22E2-4904-4C00-90C6-F3F17A08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7C03-778A-4498-A9EF-4AD09BED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862D7-C835-48FD-B879-98714E71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3C0ED-AA64-4492-8973-80F11443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FAFB4-C9F4-4778-BBBA-AFFA9B45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8F78F-A7A6-459B-B341-487038359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11026-8CF3-4810-8891-2375B1DB3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20822-674C-4814-8A24-F89E30FD3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3F75B-7597-4246-AC96-5B35DD1B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87391-C472-4C26-863C-A29CA0A7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C4446-1411-48CE-9F90-4F2F02FA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AB419-122C-4739-B75B-B798CA08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94C2-56E1-4D8C-B30B-7AF67F9D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126A9-F038-441B-A382-2A0141F9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5932B-B76D-4946-A007-EEC2AAE5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BF530-7D7D-4CE3-AEAC-18C0B858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92F6A-5EC0-403E-A593-03976E4A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7CC73-2D0C-47FC-95C8-8E7DC950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37CBF-D542-467B-8E20-EC4F1A846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4642B-4861-4D57-8939-CA42085D7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F153-8A99-447C-A0E8-715917A09071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737C-8592-4615-A946-002D2AE5CA4D}" type="slidenum"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4259-8554-4916-8244-5CFF743ED2BC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3117-942F-44D1-9A3D-539E50A2D047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531F-3855-4AC7-A0CE-9325A744FEAE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F652-9213-4E38-BCF2-FDDC35034D31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DA94-4662-4854-8EE4-2CFDDCB0C308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06C2-E3F8-4E46-9AB3-59FFC02DE4D4}" type="slidenum"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hlbi.nih.gov/health/dci/Diseases/hhw/hhw_pumping.html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"/>
          <p:cNvPicPr/>
          <p:nvPr/>
        </p:nvPicPr>
        <p:blipFill>
          <a:blip r:embed="rId2"/>
          <a:stretch/>
        </p:blipFill>
        <p:spPr>
          <a:xfrm>
            <a:off x="2627280" y="1916280"/>
            <a:ext cx="2376360" cy="29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lood returns from the lungs via the pulmonary veins, and enters the left atriu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lood passes through another atrioventricular valve 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bicuspid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o enter the left ventricle, which is heavily muscled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lood passes through the aortic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semilunar valve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s it is pumped to the aorta, where the oxygenated blood is sent through  all of the body system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heart can beat for a short time if it has been removed from the bod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shows that the heart muscles can stimulate its own contractions, without help from other sources, these muscles are known as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myogenic muscl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95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re are two specialized bundles of nerve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inoatrial (SA) node –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stimulates the muscle cells to contract and relax rhythmically; is located in the right atrium and it generates an electrical signal that spreads over the atria so they contract simultaneousl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trioventricular (AV) node –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which transmits the signal through a bundle of fibres that initiate the almost simultaneous contraction of the ventricl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ven though the heart is self regulated the heart rate can be changed by our nervous system if need b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11280" y="5516640"/>
            <a:ext cx="85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8119"/>
                </a:solidFill>
                <a:uFillTx/>
                <a:latin typeface="Calibri"/>
                <a:ea typeface="Arial"/>
                <a:hlinkClick r:id="rId1"/>
              </a:rPr>
              <a:t>http://www.nhlbi.nih.gov/health/dci/Diseases/hhw/hhw_pumping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-6480" y="420840"/>
            <a:ext cx="8974440" cy="116352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9"/>
          <p:cNvSpPr/>
          <p:nvPr/>
        </p:nvSpPr>
        <p:spPr>
          <a:xfrm>
            <a:off x="123840" y="-57240"/>
            <a:ext cx="1523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IT 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11"/>
          <p:cNvSpPr/>
          <p:nvPr/>
        </p:nvSpPr>
        <p:spPr>
          <a:xfrm>
            <a:off x="1371600" y="-4752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apter 12: The Circulatory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Text Box 12"/>
          <p:cNvSpPr/>
          <p:nvPr/>
        </p:nvSpPr>
        <p:spPr>
          <a:xfrm>
            <a:off x="7620120" y="-4428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ction 12.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2556000" y="5805360"/>
            <a:ext cx="4176720" cy="520200"/>
          </a:xfrm>
          <a:prstGeom prst="rect">
            <a:avLst/>
          </a:prstGeom>
          <a:solidFill>
            <a:srgbClr val="80ff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SA node sends out an electrical stimulus that causes the atria to contrac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Picture 2" descr="D:\Pictures\Bio11\Ch12\FigU4-28_p489.jpg"/>
          <p:cNvPicPr/>
          <p:nvPr/>
        </p:nvPicPr>
        <p:blipFill>
          <a:blip r:embed="rId2"/>
          <a:stretch/>
        </p:blipFill>
        <p:spPr>
          <a:xfrm>
            <a:off x="684360" y="1268280"/>
            <a:ext cx="7500960" cy="40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68360" y="112536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Most heart functions are analyzed by measuring the electrical pulses generated by the nerve signals that stimulate contraction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These create milliVolt charges that can be detected with electrodes on the ski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An ECG allows doctors to determine if the heart is generating signals of normal strength, frequency, and duration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D:\Pictures\Bio11\Ch12\FigU4-30_p490.jpg"/>
          <p:cNvPicPr/>
          <p:nvPr/>
        </p:nvPicPr>
        <p:blipFill>
          <a:blip r:embed="rId2"/>
          <a:stretch/>
        </p:blipFill>
        <p:spPr>
          <a:xfrm>
            <a:off x="1116000" y="4253040"/>
            <a:ext cx="618336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Questions p. 500 # 1, 6, 8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ad and summarize Coronary Artery Disease – p. 501-503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heart pumps 70 times a minute, 90 000 times a da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pushes blood through thousands of kms of blood vessels, most of which are tiny capillar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capable of rapid changes in pace as the situation requir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r heart is about the size of your fi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68360" y="1196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The heart has four chambers: two atria (sing. Atrium) and two ventricles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Lucida Sans Unicode"/>
              </a:rPr>
              <a:t>Atria</a:t>
            </a: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 receive blood from the blood vessels, and move it to the ventricles and have relatively thin walls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Lucida Sans Unicode"/>
              </a:rPr>
              <a:t>Ventricles</a:t>
            </a: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 receive blood from the atria, and send it to either the lungs, or the rest of the body and have very thick walls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The heart is separated into two pumps by a wall of muscle called the </a:t>
            </a:r>
            <a:r>
              <a:rPr b="1" lang="en-US" sz="2900" spc="-1" strike="noStrike">
                <a:solidFill>
                  <a:srgbClr val="000000"/>
                </a:solidFill>
                <a:latin typeface="Lucida Sans Unicode"/>
              </a:rPr>
              <a:t>septum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62064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The right side receives blood from the body’s veins via the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vena cava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(superior or inferior) and pumps it to the lungs (where it picks up oxygen) through the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pulmonary arteri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The oxygenated blood returns from the lungs via the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pulmonary veins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, enters the left atrium, and travels to the left ventricle and then the heart pumps it through the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aorta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to flow to the rest of the bod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179280" y="20520"/>
            <a:ext cx="7632720" cy="653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4608360" y="3421080"/>
            <a:ext cx="4535640" cy="34336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457200" y="54936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Valves control the flow of blood through the hear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atrioventricular valves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– lets blood move from the atria into the ventricles; the tricuspid is on the right and bicuspid (or mitral) is on the left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semilunar valves -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lets blood flow through the ventricles into the large arteries; the pulmonary is on the right and allows blood flow through to the lungs and the aortic is 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the left and allows blood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flow to the rest of the bod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17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The normal sound of the heartbeat, heard with a stethoscope, is described as “lub-DUB.”  These sounds are made as valves clos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27400" indent="-1940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lub” is the closing of the atrioventricular valv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27400" indent="-1940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DUB” is the closing of the semilunar valv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Sound variations can indicate heart problems, such as a stenosis murmur, or narrowing of a heart valve or arter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C152-42AB-457A-AC3A-D3404D1FF86D}" type="slidenum">
              <a:rPr b="0" lang="en-US" sz="10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" descr=""/>
          <p:cNvPicPr/>
          <p:nvPr/>
        </p:nvPicPr>
        <p:blipFill>
          <a:blip r:embed="rId2"/>
          <a:stretch/>
        </p:blipFill>
        <p:spPr>
          <a:xfrm>
            <a:off x="1324080" y="1131840"/>
            <a:ext cx="665640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611280" y="1197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eoxygenated blood first enters the heart through  superior or inferior vena cava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uperior vena cava receives blood from above the heart, while the inferior vena cava receives blood from the rest of the body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Blood arrives in the right atrium, where it passes through the atrioventricular valve (tricuspid), to the right ventricle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Blood is pumped through the pulmonary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semilunar valve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rom the right ventricle to the pulmonary arteries which carry the deoxygenated blood to the lung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00:51:34Z</dcterms:created>
  <dc:creator>Brian</dc:creator>
  <dc:description/>
  <dc:language>en-US</dc:language>
  <cp:lastModifiedBy>Tien, Jean (EDU)</cp:lastModifiedBy>
  <cp:lastPrinted>2012-11-13T16:29:27Z</cp:lastPrinted>
  <dcterms:modified xsi:type="dcterms:W3CDTF">2018-01-17T14:59:17Z</dcterms:modified>
  <cp:revision>14</cp:revision>
  <dc:subject/>
  <dc:title>PowerPoint Presentation</dc:title>
</cp:coreProperties>
</file>