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E6F6-F2F9-46EA-88C4-3338933F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4040-450F-4FA3-B91F-9BB2B970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5187-E0A8-4503-8794-CCD6BF37E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D91E-7108-41A7-8F1C-2455DC544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4B4A-FFB3-4949-87AC-FFB86780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2AEE-FAF3-4838-BE81-3428B4E5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A29C-460E-4724-870A-37EA0EFC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C035-ECD5-4913-AD9B-4434F5C9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D8DA-C75E-4056-80D1-C0A2D169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6539-0118-4773-A105-F6E19068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E993-5122-4D59-9025-18404361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EEA1-1E27-4E18-9745-F3A29E36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236C-4DA8-4571-A592-662867C8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3E1B-8C57-4A6D-B695-94EA8E39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404C-AE0E-4A1B-BA7C-FDB1F498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B3F4-5691-4E09-AC88-FD6C1865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D9B7-236B-4B10-8C80-3C52BEAC5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F2491-7161-4A1F-AA66-F68A3C4D8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F6EF0-4CE3-4736-BC9A-334564DC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269E7-A1A0-4E45-BB5D-9350C3C0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88F20-8ECD-4306-ADA7-25705C08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D75E7-91FC-4E0E-9893-B83C6600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0F2D-A8CF-4952-8F11-9A0E9200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D4FD6-0FFF-43EC-88AA-0A67A110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38CF3-85CA-44CD-A0E6-61DE05FD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63AAF-0A00-498E-B205-46EDD93E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057D8-084D-4C13-B791-FC5356DD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34A2C-703B-40C1-8D31-E678C0A9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FB663-716F-493C-B2C1-6CE35EBD7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ECB8A-9CEE-4260-8507-D8D9AC99E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5BE1D-0C47-4E82-87D9-3F413984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6F8FA-A170-4F0E-B262-C8F6376C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649DD-5576-45F9-A00D-CDD4A308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765F-359E-4BDD-B445-A6E760FF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390DD-32AA-4E0B-8FA8-469EE16B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13FCF-97C2-4A08-AE80-BB4524F2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0FC62-5B30-463E-907E-BA302DD2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E725F-A81B-4A2A-9D32-41FB5156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B6831-C699-4644-B7A2-965F1000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3CD5B-63FC-447E-B512-DD14BC04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B8DE8-FF5C-4DD4-A492-70103103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6F491-62D6-4C0B-87C9-42680247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174CF-591A-47D4-B9D5-EB3C75E5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18303-38DA-4016-83D7-F38CA2657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0C77-68C4-4442-B8E7-5F98FF2C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33444-709E-40F8-A589-583597A1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20EB6-B84C-4FED-8AD9-C5A36D09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1E0C8-DC57-4A73-B098-F9B87F36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2595A-E9ED-492E-A53D-EA46E2AB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535C9-9280-48E8-A9C7-EF34C72A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6E2B4-3117-465F-A82C-856087C7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D13DA-4A1E-435E-9856-67026BF8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76604-96F7-4742-A441-1330FBC7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C066E-1D5A-4BB9-97B7-9C69E2C8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78B06-3499-42C5-BDE9-5A0F45201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2373-01B1-461D-85E4-3A75B288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B2381-7754-4208-B049-38E5702D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3C7B4-75F4-473B-8863-9D1550175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0D1BC-DDD5-4A0E-BC37-1C3DE41F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E4C95-6C02-45EF-9158-90364619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3F2C5-203E-4720-BE6B-2C514EBD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F71A6-5B8C-45B3-96E4-30F0100B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6780C-540A-4691-981B-3453642E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DA26F-BF76-4A69-B977-31D55226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964D2-40F1-48E7-AA5B-06607F8A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57C46-A7C4-4C49-B96E-0643771B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BC0D-C2BE-4C0D-A7FD-D4C2AC56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225A0-2D2D-481A-BDB8-DDC488D4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84B83-7A15-4FA0-83C4-4CEC454B6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875C1-41DA-4B4C-9608-CB72C6171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B5C63-5B24-4650-A822-241E7D3B5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4A4CD-280F-4F27-9C14-75A8AF37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3DD0C-9E98-4081-9AB0-87846570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0CEE2-284C-46A7-AA04-009965C6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DC7B7-B01F-4BEF-89D4-17FAA219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EF88A-412F-483C-9BCF-3609D3E0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E0341-8C4F-4C72-957A-C7527516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4189-43F4-4CA6-A55C-0EFF4485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37D00-5924-4ABB-A3D1-8C46275B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B2B08-9070-4F63-A415-9A8B9E99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50CC1-23C9-4C25-91F7-A2A88F8D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1682B-CE21-44D2-B643-F2DFD94BE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82022-20AD-4A07-B50E-8428830D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F8157-D340-45C9-8F4A-B00F5C92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C7F73-D7BF-40D1-86F7-F3109412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A7301-53B2-4C4C-A79A-25964D96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C0F5F-7435-4975-B31D-88510244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8A4FC-F61E-42B3-B4C3-B61B242D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4674-7FC1-4537-8BAD-13F7BDA3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A2126-FB3E-412B-9AF6-31714DF4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37E25-9701-41BB-AA02-D3302A02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B3B3B-3E83-48DA-B98D-A1AB2F47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AA457-8668-4929-A37F-60953C82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657A8-3B21-4E09-A88B-90CAF0D2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27ACA-0CF2-433B-A107-35834AD4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FBCB0-7640-4C4D-ADAD-07DA87CA4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18BA-9F07-4763-9B8D-557F8F59E34A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AE3D-819A-4FFF-955E-1B92CC49BBD8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9F99-6A55-4EFA-A975-E5EE89159D6C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E933-495C-4076-AB0A-637C497BECEA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9F6A-B247-4873-9FE3-8593362DDDA7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8123-95C4-4E7C-BE6E-8CAFA731F103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3E0D-8896-4805-BA98-B2515205E5CB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199D-3D13-46D1-885E-98A56FCCAC1D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hlbi.nih.gov/health/dci/Diseases/hhw/hhw_pumping.html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"/>
          <p:cNvPicPr/>
          <p:nvPr/>
        </p:nvPicPr>
        <p:blipFill>
          <a:blip r:embed="rId2"/>
          <a:stretch/>
        </p:blipFill>
        <p:spPr>
          <a:xfrm>
            <a:off x="2627280" y="1916280"/>
            <a:ext cx="2376360" cy="29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lood returns from the lungs via the pulmonary veins, and enters the left atriu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lood passes through another atrioventricular valve 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bicuspid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o enter the left ventricle, which is heavily muscled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lood passes through the aortic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emilunar valv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 it is pumped to the aorta, where the oxygenated blood is sent through  all of the body system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heart can beat for a short time if it has been removed from the bod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shows that the heart muscles can stimulate its own contractions, without help from other sources, these muscles are known a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myogenic musc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 are two specialized bundles of nerve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inoatrial (SA) node –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timulates the muscle cells to contract and relax rhythmically; is located in the right atrium and it generates an electrical signal that spreads over the atria so they contract simultaneousl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trioventricular (AV) node –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which transmits the signal through a bundle of fibres that initiate the almost simultaneous contraction of the ventricl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ven though the heart is self regulated the heart rate can be changed by our nervous system if need b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11280" y="5516640"/>
            <a:ext cx="85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8119"/>
                </a:solidFill>
                <a:uFillTx/>
                <a:latin typeface="Calibri"/>
                <a:ea typeface="Arial"/>
                <a:hlinkClick r:id="rId1"/>
              </a:rPr>
              <a:t>http://www.nhlbi.nih.gov/health/dci/Diseases/hhw/hhw_pumping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-6480" y="420840"/>
            <a:ext cx="8974440" cy="116352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123840" y="-5724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IT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11"/>
          <p:cNvSpPr/>
          <p:nvPr/>
        </p:nvSpPr>
        <p:spPr>
          <a:xfrm>
            <a:off x="1371600" y="-475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apter 12: The Circulatory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 Box 12"/>
          <p:cNvSpPr/>
          <p:nvPr/>
        </p:nvSpPr>
        <p:spPr>
          <a:xfrm>
            <a:off x="7620120" y="-4428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ction 12.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2556000" y="5805360"/>
            <a:ext cx="4176720" cy="52020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SA node sends out an electrical stimulus that causes the atria to contrac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2" descr="D:\Pictures\Bio11\Ch12\FigU4-28_p489.jpg"/>
          <p:cNvPicPr/>
          <p:nvPr/>
        </p:nvPicPr>
        <p:blipFill>
          <a:blip r:embed="rId2"/>
          <a:stretch/>
        </p:blipFill>
        <p:spPr>
          <a:xfrm>
            <a:off x="684360" y="1268280"/>
            <a:ext cx="7500960" cy="40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68360" y="112536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Most heart functions are analyzed by measuring the electrical pulses generated by the nerve signals that stimulate contraction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These create milliVolt charges that can be detected with electrodes on the ski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An ECG allows doctors to determine if the heart is generating signals of normal strength, frequency, and duratio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D:\Pictures\Bio11\Ch12\FigU4-30_p490.jpg"/>
          <p:cNvPicPr/>
          <p:nvPr/>
        </p:nvPicPr>
        <p:blipFill>
          <a:blip r:embed="rId2"/>
          <a:stretch/>
        </p:blipFill>
        <p:spPr>
          <a:xfrm>
            <a:off x="1116000" y="4253040"/>
            <a:ext cx="618336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estions p. 500 # 1, 6, 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ad and summarize Coronary Artery Disease – p. 501-50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heart pumps 70 times a minute, 90 000 times a da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pushes blood through thousands of kms of blood vessels, most of which are tiny capillar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capable of rapid changes in pace as the situation requir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r heart is about the size of your fi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68360" y="1196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The heart has four chambers: two atria (sing. Atrium) and two ventricles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Lucida Sans Unicode"/>
              </a:rPr>
              <a:t>Atria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 receive blood from the blood vessels, and move it to the ventricles and have relatively thin walls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Lucida Sans Unicode"/>
              </a:rPr>
              <a:t>Ventricles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 receive blood from the atria, and send it to either the lungs, or the rest of the body and have very thick walls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The heart is separated into two pumps by a wall of muscle called the </a:t>
            </a:r>
            <a:r>
              <a:rPr b="1" lang="en-US" sz="2900" spc="-1" strike="noStrike">
                <a:solidFill>
                  <a:srgbClr val="000000"/>
                </a:solidFill>
                <a:latin typeface="Lucida Sans Unicode"/>
              </a:rPr>
              <a:t>septum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62064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The right side receives blood from the body’s veins via th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vena cava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(superior or inferior) and pumps it to the lungs (where it picks up oxygen) through th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pulmonary arter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The oxygenated blood returns from the lungs via th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pulmonary vein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, enters the left atrium, and travels to the left ventricle and then the heart pumps it through th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aorta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to flow to the rest of the bod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179280" y="20520"/>
            <a:ext cx="7632720" cy="65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4608360" y="3421080"/>
            <a:ext cx="4535640" cy="34336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Valves control the flow of blood through the hear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atrioventricular valve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– lets blood move from the atria into the ventricles; the tricuspid is on the right and bicuspid (or mitral) is on the lef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emilunar valves -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lets blood flow through the ventricles into the large arteries; the pulmonary is on the right and allows blood flow through to the lungs and the aortic is 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the left and allows blood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flow to the rest of the bod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17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The normal sound of the heartbeat, heard with a stethoscope, is described as “lub-DUB.”  These sounds are made as valves clos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7400" indent="-1940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lub” is the closing of the atrioventricular valv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7400" indent="-1940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DUB” is the closing of the semilunar valv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ound variations can indicate heart problems, such as a stenosis murmur, or narrowing of a heart valve or arte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F629-D4EB-4D2F-98CE-3680D9FBB256}" type="slidenum">
              <a:rPr b="0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"/>
          <p:cNvPicPr/>
          <p:nvPr/>
        </p:nvPicPr>
        <p:blipFill>
          <a:blip r:embed="rId2"/>
          <a:stretch/>
        </p:blipFill>
        <p:spPr>
          <a:xfrm>
            <a:off x="1324080" y="1131840"/>
            <a:ext cx="665640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611280" y="1197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oxygenated blood first enters the heart through  superior or inferior vena cava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uperior vena cava receives blood from above the heart, while the inferior vena cava receives blood from the rest of the body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lood arrives in the right atrium, where it passes through the atrioventricular valve (tricuspid), to the right ventricle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lood is pumped through the pulmonary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emilunar valve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rom the right ventricle to the pulmonary arteries which carry the deoxygenated blood to the lung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00:51:34Z</dcterms:created>
  <dc:creator>Brian</dc:creator>
  <dc:description/>
  <dc:language>en-US</dc:language>
  <cp:lastModifiedBy>Tien, Jean (EDU)</cp:lastModifiedBy>
  <cp:lastPrinted>2012-11-13T16:29:27Z</cp:lastPrinted>
  <dcterms:modified xsi:type="dcterms:W3CDTF">2018-01-17T14:59:17Z</dcterms:modified>
  <cp:revision>14</cp:revision>
  <dc:subject/>
  <dc:title>PowerPoint Presentation</dc:title>
</cp:coreProperties>
</file>