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7CD3-0F03-4F8D-A136-BA58CF3FD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323F-A147-4155-A23E-53844B7A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220E-EE2A-4379-B207-F6ED7FBE6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02DE-D988-45E0-8CAD-2314F82DD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637A-0735-4288-B21C-0A61FB198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5788-A82E-4524-ADC6-19FE8C8B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8072-B4BB-47B3-88A9-CEF338A2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3BEE-96AD-4A73-B557-95FF9C55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386A-9CE3-48A1-A2D5-99124F58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7DFB-6EFC-4501-ABA5-6652A685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30CC-8416-4AC5-A001-86804DDB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7F2B-AFE9-4AE6-9D7A-D03D3FD3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7E0B-9C24-434E-8B27-F4F89CC3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69C9-C736-4390-9453-60EB3B97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CD09-4C84-43BB-B58F-897D343A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6C99-E77E-4F8D-916F-376D72D6A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D609-0EB3-48CF-B41E-F21BF148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D7692-CB04-404D-BFE5-EC2909E6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BEB10-42BA-4976-8381-5B5938E8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D0BF3-A14F-4026-9D54-6FAEA88A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BC76E-3D15-4898-974A-38B51973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A244A-5545-446A-9DF7-4E7303E5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A7A9-905C-4431-83C0-0E4358B5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A2835-92E2-4335-896F-3F70F819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E0A08-FB88-4714-BC13-7CE3DF37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B2C98-BB5C-4D62-ACA0-924B9085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D584E-0433-49C8-804D-334D8077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15452-F845-4EC9-88AC-30DA03DD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AE422-D2B1-4AEF-9D30-96294CEE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ACA60-3888-43A4-BF30-7456FB74D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B25F7-CB55-4598-A44B-A134548F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A4362-785E-43F7-82FF-F4FB6E61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EB7F6-5DFB-4A3A-BE87-58B15403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AF5A-CCDA-41C1-ABA1-B847EA75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21232-C050-44A9-A319-F2543735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7EBF8-1C98-440A-92F4-B7846AC3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201A8-7AC2-43E3-A885-0C6B2FF3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14749-5681-4EB9-9B25-1A03B2FF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558EB-CD3C-45BA-80D2-E4CBD2DD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55DE0-F467-4E64-AB43-ADFD114F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A0BDA-740B-41AD-9406-C2ABA5F7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1B706-CBF0-409C-9157-B813AB50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702A3-4E77-4203-8201-725B7F5F2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18C7A-37ED-423E-B10A-61DC7B74C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B8DF-B73B-41AF-958F-62D09E27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46559-A605-4D47-B58B-4888DA68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EB6EA-7A86-4105-BF4F-66329C53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416DA-1C58-4872-83A6-207114E1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E0E00-66ED-4A20-B10F-30EE892B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532B5-A13C-4401-B336-5869B1BC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7CBA0-CD25-46E0-B259-F854FB94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8CD34-A0D2-440F-977A-F09EA1E8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21339-00A8-4946-91FE-80CBC973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508FA-1F57-4E1A-AC12-8C25952C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557AD-DB03-466C-97BF-6B2AD2636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4B9D-3F84-4FC1-B728-C052CAA2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57B1C-E8E4-42B1-A557-76252EDB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C05D0-D006-4971-BB7B-178BDBF4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75558-E229-42A7-9FFF-CA6251EF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A8164-4A82-4D8C-B971-23C4A3FC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FEB0C-CAB3-4FC2-ACC5-2E58DA45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3D730-D56F-411B-985E-86517EA8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EEF80-8273-4FDD-BDAF-C0E906D5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48431-8C8B-4421-A735-EDAA38D6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C82FB-D58E-4CD8-AB56-AE3E52E1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E1118-BF5F-4CAE-BFE0-95A0F0FA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0CDB-C70D-43ED-B84C-EA23DCE2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C58F9-742E-4323-9812-50C50C2F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D1863-429B-46DA-917E-CD3F62DF3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8DCC4-5644-4EE7-A363-5AD120871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DFA2B-153B-496A-8CA9-2DD1FA7A6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329CB-C3CE-4864-98C5-A9485C31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B3655-8A35-4BB4-A50B-5A4A040C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CA41A-F2EA-480C-B1AD-03931A25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FE9B2-CCE5-4B2E-80F9-4120DFDA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A63C1-5863-460E-B458-E8C2C8F6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650D2-ACFB-47C9-AA4C-DABA4AD3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F952-66CC-4A3F-9618-0EDEBE6C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54EE5-9A28-4329-9A3E-8C885D5B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21096-63C6-4453-8702-00230F0F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829D3-5F28-41ED-9974-5020AAD4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3CD88-EBB0-4244-AE33-9FC51E83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CF384-19BC-4794-B336-AF3C5F3F4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4393A-4CC0-4881-BE06-D9B681F59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7FCFB-88C6-456F-AAB3-B2BBFDE4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E4CF3-6225-4CED-889F-AEE22314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3CE66-8519-4844-8A72-0BBAE0C8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F5A78-7DA7-4ED2-9674-EC01801A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2A42-83C5-4F7B-86DD-6DA2F708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8FDF4-FEEF-48F8-8AD2-58CD4FFA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54690-1A2F-4E4D-8885-0B2B5884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7895F-0B5B-4848-9781-97C83B4D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645B0-889C-4055-9010-D84591AB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23D0C-0E07-4ABE-AD9D-D9ADA472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DC157-560C-477A-8173-99D7DAE6C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7CF82-FAB5-40E7-A152-B10DBF31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4ABC-3D11-4C7E-AE6C-01D688A93172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B4CA-913E-4F06-80DF-74F86CED28F2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ECA2-F80C-4733-A952-124216ED2688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1C00-3CE4-41F4-8FEB-E055D3D53D1F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A5E8-98FF-46EE-A3FD-66FAA00AF104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802A-6C90-46DB-B87A-FBF4E1228DB7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A265-7093-4408-93B4-C29FEDF1BE9D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D524-F178-4686-A67D-4E87BD20FEDE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hlbi.nih.gov/health/dci/Diseases/hhw/hhw_pumping.html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"/>
          <p:cNvPicPr/>
          <p:nvPr/>
        </p:nvPicPr>
        <p:blipFill>
          <a:blip r:embed="rId2"/>
          <a:stretch/>
        </p:blipFill>
        <p:spPr>
          <a:xfrm>
            <a:off x="2627280" y="1916280"/>
            <a:ext cx="2376360" cy="29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lood returns from the lungs via the pulmonary veins, and enters the left atriu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lood passes through another atrioventricular valve 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bicuspid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o enter the left ventricle, which is heavily muscled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lood passes through the aortic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emilunar valv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 it is pumped to the aorta, where the oxygenated blood is sent through  all of the body system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heart can beat for a short time if it has been removed from the bod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shows that the heart muscles can stimulate its own contractions, without help from other sources, these muscles are known a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myogenic musc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 are two specialized bundles of nerve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inoatrial (SA) node –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timulates the muscle cells to contract and relax rhythmically; is located in the right atrium and it generates an electrical signal that spreads over the atria so they contract simultaneousl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trioventricular (AV) node –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which transmits the signal through a bundle of fibres that initiate the almost simultaneous contraction of the ventricl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ven though the heart is self regulated the heart rate can be changed by our nervous system if need b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11280" y="5516640"/>
            <a:ext cx="85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8119"/>
                </a:solidFill>
                <a:uFillTx/>
                <a:latin typeface="Calibri"/>
                <a:ea typeface="Arial"/>
                <a:hlinkClick r:id="rId1"/>
              </a:rPr>
              <a:t>http://www.nhlbi.nih.gov/health/dci/Diseases/hhw/hhw_pumping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-6480" y="420840"/>
            <a:ext cx="8974440" cy="116352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123840" y="-5724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IT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11"/>
          <p:cNvSpPr/>
          <p:nvPr/>
        </p:nvSpPr>
        <p:spPr>
          <a:xfrm>
            <a:off x="1371600" y="-475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apter 12: The Circulatory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 Box 12"/>
          <p:cNvSpPr/>
          <p:nvPr/>
        </p:nvSpPr>
        <p:spPr>
          <a:xfrm>
            <a:off x="7620120" y="-4428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ction 12.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2556000" y="5805360"/>
            <a:ext cx="4176720" cy="52020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SA node sends out an electrical stimulus that causes the atria to contrac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2" descr="D:\Pictures\Bio11\Ch12\FigU4-28_p489.jpg"/>
          <p:cNvPicPr/>
          <p:nvPr/>
        </p:nvPicPr>
        <p:blipFill>
          <a:blip r:embed="rId2"/>
          <a:stretch/>
        </p:blipFill>
        <p:spPr>
          <a:xfrm>
            <a:off x="684360" y="1268280"/>
            <a:ext cx="7500960" cy="40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68360" y="112536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Most heart functions are analyzed by measuring the electrical pulses generated by the nerve signals that stimulate contraction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These create milliVolt charges that can be detected with electrodes on the ski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An ECG allows doctors to determine if the heart is generating signals of normal strength, frequency, and duratio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D:\Pictures\Bio11\Ch12\FigU4-30_p490.jpg"/>
          <p:cNvPicPr/>
          <p:nvPr/>
        </p:nvPicPr>
        <p:blipFill>
          <a:blip r:embed="rId2"/>
          <a:stretch/>
        </p:blipFill>
        <p:spPr>
          <a:xfrm>
            <a:off x="1116000" y="4253040"/>
            <a:ext cx="618336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estions p. 500 # 1, 6, 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ad and summarize Coronary Artery Disease – p. 501-50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heart pumps 70 times a minute, 90 000 times a da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pushes blood through thousands of kms of blood vessels, most of which are tiny capillar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capable of rapid changes in pace as the situation requir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r heart is about the size of your fi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68360" y="1196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The heart has four chambers: two atria (sing. Atrium) and two ventricles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Lucida Sans Unicode"/>
              </a:rPr>
              <a:t>Atria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 receive blood from the blood vessels, and move it to the ventricles and have relatively thin walls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Lucida Sans Unicode"/>
              </a:rPr>
              <a:t>Ventricles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 receive blood from the atria, and send it to either the lungs, or the rest of the body and have very thick walls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The heart is separated into two pumps by a wall of muscle called the </a:t>
            </a:r>
            <a:r>
              <a:rPr b="1" lang="en-US" sz="2900" spc="-1" strike="noStrike">
                <a:solidFill>
                  <a:srgbClr val="000000"/>
                </a:solidFill>
                <a:latin typeface="Lucida Sans Unicode"/>
              </a:rPr>
              <a:t>septum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62064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The right side receives blood from the body’s veins via th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vena cava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(superior or inferior) and pumps it to the lungs (where it picks up oxygen) through th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pulmonary arter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The oxygenated blood returns from the lungs via th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pulmonary vein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, enters the left atrium, and travels to the left ventricle and then the heart pumps it through th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aorta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to flow to the rest of the bod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179280" y="20520"/>
            <a:ext cx="7632720" cy="65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4608360" y="3421080"/>
            <a:ext cx="4535640" cy="34336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Valves control the flow of blood through the hear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atrioventricular valve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– lets blood move from the atria into the ventricles; the tricuspid is on the right and bicuspid (or mitral) is on the lef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emilunar valves -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lets blood flow through the ventricles into the large arteries; the pulmonary is on the right and allows blood flow through to the lungs and the aortic is 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the left and allows blood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flow to the rest of the bod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17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The normal sound of the heartbeat, heard with a stethoscope, is described as “lub-DUB.”  These sounds are made as valves clos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7400" indent="-1940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lub” is the closing of the atrioventricular valv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7400" indent="-1940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DUB” is the closing of the semilunar valv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ound variations can indicate heart problems, such as a stenosis murmur, or narrowing of a heart valve or arte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822F-611A-4F28-B218-FFF5571A604B}" type="slidenum">
              <a:rPr b="0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"/>
          <p:cNvPicPr/>
          <p:nvPr/>
        </p:nvPicPr>
        <p:blipFill>
          <a:blip r:embed="rId2"/>
          <a:stretch/>
        </p:blipFill>
        <p:spPr>
          <a:xfrm>
            <a:off x="1324080" y="1131840"/>
            <a:ext cx="665640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611280" y="1197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oxygenated blood first enters the heart through  superior or inferior vena cava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uperior vena cava receives blood from above the heart, while the inferior vena cava receives blood from the rest of the body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lood arrives in the right atrium, where it passes through the atrioventricular valve (tricuspid), to the right ventricle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lood is pumped through the pulmonary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emilunar valve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rom the right ventricle to the pulmonary arteries which carry the deoxygenated blood to the lung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00:51:34Z</dcterms:created>
  <dc:creator>Brian</dc:creator>
  <dc:description/>
  <dc:language>en-US</dc:language>
  <cp:lastModifiedBy>Tien, Jean (EDU)</cp:lastModifiedBy>
  <cp:lastPrinted>2012-11-13T16:29:27Z</cp:lastPrinted>
  <dcterms:modified xsi:type="dcterms:W3CDTF">2018-01-17T14:59:17Z</dcterms:modified>
  <cp:revision>14</cp:revision>
  <dc:subject/>
  <dc:title>PowerPoint Presentation</dc:title>
</cp:coreProperties>
</file>