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2FA-0315-4FC1-8531-96E191C1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D79-1D10-48D8-A3E7-D28C7768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624-030A-4E03-8333-23F93B33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118-B832-454D-B573-3BB92518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E06F-B558-4199-B454-33085EE9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9D1B-BB67-416D-A26D-149009C9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21D9-9C20-433F-91ED-A95D894A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6503-6448-4933-856C-743CC54A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5F79-085C-4E18-AB59-FEA73F0E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984B-4BD4-4A57-A72F-8EF7DFDC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6FCE-B45B-4E39-987F-77B49923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5FC-A724-4A29-8C92-ABE44883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DD34-6B4B-4884-A516-7EABBD30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3578-33FA-46F9-8B24-A0FE04DB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386E-45CB-49C4-87A9-4C9F5950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6554-CDA4-45E7-B7FD-8D1CBED4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A8A5-3E27-47C8-A6CC-4C728087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44692-00A8-4EE1-957F-DDD834B7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E95AC-AB94-4212-B270-84B61521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E272F-690A-464A-8BEE-6A663BDD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D263E-4C4C-430A-808C-4DFF6F2F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B3857-EEF3-4D18-9A37-B434EEFC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3F3-0EFE-4989-8A6C-EA512969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20FC7-2A87-4E9A-9C1B-72635EBF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0EC0-8CC4-4A8F-AF8F-C67D9B96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1B048-050B-4E58-88F0-75D1F233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36E40-4B72-4AF9-B0F1-6E9E13BF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B2A7-191B-4102-8EE4-A4376CC8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8B2DE-5BD9-46BE-B99C-9DB27FC1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290D-2745-4B57-BFCD-EA12AB15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CE81-BFE6-4149-B96F-10987B0F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AF683-CBF4-4804-9B12-FD47E379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04AB0-4DBF-456D-BC74-90384334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06B-D757-4DA0-982D-E9F924FC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4DB7-D487-4F9A-B585-C726214C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2CF56-CF2F-4F97-BD67-90E2DC57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5779E-70CD-497B-8031-3766BB56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A0BD7-7468-4A59-8704-547820E2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9C091-3A95-4BE4-8DB8-9A19DDA2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9BD1F-A7F2-4F02-BEC3-1297ABB5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5600C-4105-4529-8430-E81C948C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92FD2-CDF8-40A9-A9BC-E55C2A43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C46A6-5849-4820-B3EE-29C26098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3CCD6-3E2A-4C6E-B5C2-150B964D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A26-BD7B-413A-A4D3-CDA04386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6D725-AE3C-4A4F-BF3E-63E1F6A0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CCE2C-9880-4D56-B6BD-8DCD32EC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24198-C10E-4C6B-A115-6281E353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EF71A-E13D-4AEF-AB12-D9797E3B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43AE1-C898-454C-A488-A5668972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2083E-B915-4257-B372-060FC164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DFCA4-5BBB-4CD2-A878-D4268BFC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5420C-632F-4368-9B90-589330F8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2BC7C-C395-46DE-BAE0-DCE7CBA5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CCA6B-B466-4053-8DF2-C66A6C53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C7E-2143-418A-96CE-9E2C4B88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683DB-5472-4B3D-B9FF-A5846306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E888F-FE35-4034-AD34-0AA99DE6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D4E20-C449-4241-A1DE-C5F45560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05959-0512-45DB-9E78-CB97D07F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91EAD-A5C0-41E7-87C9-A5728B20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78C5C-AC5C-468A-BCE6-1E9B0B56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1229A-C9D9-4203-A8C0-BE0CF62B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EDECF-40E6-44DC-A063-84261F48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2C815-9825-4D0B-8F7A-9CC3A3C9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76272-6621-41F2-A03B-E63EDFD1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59F-8F7D-4CD3-A356-B4DD92B2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8DB05-25F2-4C76-95CB-A52D4EE9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1591B-2951-4566-92E8-A8577E5F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79D2F-C8AA-4E68-B0F6-E0AAD023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099DD-C9BB-4914-A8D7-4D54397A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FCB5D-FA3F-46E9-BD24-48AAB6DD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921A4-6C63-48D2-B6F0-1A917A81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7D49D-2A0E-45DE-A4C7-4BF8F9BC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0C65A-386A-4A32-A1DA-4C790C2E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5E1AA-E00C-4E5F-8946-067B539E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CCE71-0656-46EB-BB6E-E1C06E9F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A4F-FA61-4CDD-B402-BAD482DE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BE1A4-FD7D-4D89-9461-3AE8C283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38548-5075-44FA-9737-311A1C25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B18EA-5E0D-45F5-A2BA-07E63752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F45E6-41F2-4D87-97A0-2C1C6467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13D67-05CA-4C00-8CAF-94345271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AFB98-1A66-4C43-BF74-C75838A0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A5420-60EB-40AE-9C9C-8B56C05C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625BB-2CDC-4511-8EAF-0CE3D319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79CC8-0033-448E-843A-30FD7C7D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229BC-FAE8-4BCD-8930-7F33453F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0EF-1987-473C-AF23-781AB18B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44147-B83D-4B69-90D3-AFE58048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824AD-98FC-4C06-9E0E-6723815C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78587-D088-488A-A1D1-5C0FBEB5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1859E-08AA-450D-99AF-96283677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E51E7-3931-47F6-98DF-63BAA22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59A14-8FD8-46A3-8FB2-B3591D81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5D33D-B27E-4D02-95A4-20E37A0E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EBE8-4869-467F-A365-46EEE8E7844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04A7-C815-4D3F-8AC1-F7A19C3B0C00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1168-C33F-496B-AF90-BFBC03FB94B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DD27-C046-4B3C-92BA-40B81B62AE8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EA72-137B-4F1B-8F58-22958647938D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B5F7-A59E-4758-A862-F5795FA5A9E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7269-5816-4282-B1BE-486AC354334A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8CDC-DB75-4E96-B72F-B3B9F4711952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hlbi.nih.gov/health/dci/Diseases/hhw/hhw_pumping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23763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returns from the lungs via the pulmonary veins, and enters the left atri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passes through another atrioventricular valve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icuspi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enter the left ventricle, which is heavily muscle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passes through the aortic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it is pumped to the aorta, where the oxygenated blood is sent through  all of the body syst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eart can beat for a short time if it has been removed from the bo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shows that the heart muscles can stimulate its own contractions, without help from other sources, these muscles are known a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yogenic musc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specialized bundles of nerv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oatrial (SA) node –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timulates the muscle cells to contract and relax rhythmically; is located in the right atrium and it generates an electrical signal that spreads over the atria so they contract simultaneous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trioventricular (AV) node –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which transmits the signal through a bundle of fibres that initiate the almost simultaneous contraction of the ventric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en though the heart is self regulated the heart rate can be changed by our nervous system if need b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11280" y="5516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Calibri"/>
                <a:ea typeface="Arial"/>
                <a:hlinkClick r:id="rId1"/>
              </a:rPr>
              <a:t>http://www.nhlbi.nih.gov/health/dci/Diseases/hhw/hhw_pumping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-6480" y="420840"/>
            <a:ext cx="8974440" cy="11635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123840" y="-5724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apter 12: The Circulatory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ction 12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56000" y="5805360"/>
            <a:ext cx="4176720" cy="52020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A node sends out an electrical stimulus that causes the atria to contrac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D:\Pictures\Bio11\Ch12\FigU4-28_p489.jpg"/>
          <p:cNvPicPr/>
          <p:nvPr/>
        </p:nvPicPr>
        <p:blipFill>
          <a:blip r:embed="rId2"/>
          <a:stretch/>
        </p:blipFill>
        <p:spPr>
          <a:xfrm>
            <a:off x="684360" y="1268280"/>
            <a:ext cx="750096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ost heart functions are analyzed by measuring the electrical pulses generated by the nerve signals that stimulate contraction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se create milliVolt charges that can be detected with electrodes on the sk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n ECG allows doctors to determine if the heart is generating signals of normal strength, frequency, and duratio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D:\Pictures\Bio11\Ch12\FigU4-30_p490.jpg"/>
          <p:cNvPicPr/>
          <p:nvPr/>
        </p:nvPicPr>
        <p:blipFill>
          <a:blip r:embed="rId2"/>
          <a:stretch/>
        </p:blipFill>
        <p:spPr>
          <a:xfrm>
            <a:off x="1116000" y="4253040"/>
            <a:ext cx="61833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 p. 500 # 1, 6, 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and summarize Coronary Artery Disease – p. 501-50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eart pumps 70 times a minute, 90 000 times a d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ushes blood through thousands of kms of blood vessels, most of which are tiny capill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capable of rapid changes in pace as the situation requi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heart is about the size of your f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e heart has four chambers: two atria (sing. Atrium) and two ventricle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Atria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 receive blood from the blood vessels, and move it to the ventricles and have relatively thin wall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Ventricles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 receive blood from the atria, and send it to either the lungs, or the rest of the body and have very thick wall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e heart is separated into two pumps by a wall of muscle called the </a:t>
            </a: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septum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right side receives blood from the body’s veins via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ena cav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(superior or inferior) and pumps it to the lungs (where it picks up oxygen) through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ulmonary arte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oxygenated blood returns from the lungs via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ulmonary vein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enters the left atrium, and travels to the left ventricle and then the heart pumps it through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ort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to flow to the rest of the bod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763272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4608360" y="3421080"/>
            <a:ext cx="4535640" cy="3433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alves control the flow of blood through the hear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trioventricular valv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– lets blood move from the atria into the ventricles; the tricuspid is on the right and bicuspid (or mitral) is on the lef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s -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lets blood flow through the ventricles into the large arteries; the pulmonary is on the right and allows blood flow through to the lungs and the aortic is 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left and allows bloo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flow to the rest of the bod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normal sound of the heartbeat, heard with a stethoscope, is described as “lub-DUB.”  These sounds are made as valves clos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7400" indent="-194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lub” is the closing of the atrioventricular va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7400" indent="-194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UB” is the closing of the semilunar va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ound variations can indicate heart problems, such as a stenosis murmur, or narrowing of a heart valve or arte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A622-18A4-4119-8824-1883394B2E38}" type="slidenum"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1324080" y="1131840"/>
            <a:ext cx="66564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11280" y="1197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oxygenated blood first enters the heart through  superior or inferior vena cava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perior vena cava receives blood from above the heart, while the inferior vena cava receives blood from the rest of the bod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 arrives in the right atrium, where it passes through the atrioventricular valve (tricuspid), to the right ventricl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 is pumped through the pulmonary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om the right ventricle to the pulmonary arteries which carry the deoxygenated blood to the lun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0:51:34Z</dcterms:created>
  <dc:creator>Brian</dc:creator>
  <dc:description/>
  <dc:language>en-US</dc:language>
  <cp:lastModifiedBy>Tien, Jean (EDU)</cp:lastModifiedBy>
  <cp:lastPrinted>2012-11-13T16:29:27Z</cp:lastPrinted>
  <dcterms:modified xsi:type="dcterms:W3CDTF">2018-01-17T14:59:17Z</dcterms:modified>
  <cp:revision>14</cp:revision>
  <dc:subject/>
  <dc:title>PowerPoint Presentation</dc:title>
</cp:coreProperties>
</file>