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574-A4BE-4B23-A06B-4E666CA2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022-8D72-4919-9D7D-152AA426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2E9-B253-43A8-85BA-7067EAA6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FC9-9679-4DF9-B8F1-E8591ED9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3850-F565-40D4-974A-E6881D8B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65EB-89CB-41C2-B173-44F917F3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FE8C-17B3-47B6-A72D-27C7D0A8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00AA-27B9-4E1C-9596-C4B09469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5EBD-B95E-4FE8-8076-3A678EE8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4DAA-0457-473E-ADA1-107F5CEA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CED4-453B-485D-9148-A2E27605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7B0-1610-47DA-8AC3-9D18598F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D1AC-64FD-482F-8BF1-44708B33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233F-B3E5-4E3D-A5EB-518803B2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BA9B-433C-4D8A-BEC6-3F9BD1FD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1075-FC80-45A0-93B0-F324EB4B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BCA0-AE0D-47BD-94E6-A00A8A64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4FB2-2030-4941-A8F2-E94ACEBD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C7A1C-5CD2-406C-BEC1-39328958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4B2C-C5AE-425C-BB31-1AD2FF23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AC6BC-733A-4107-A515-B2B4BC1D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0F32-9F84-425A-9032-6A824C61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70F-4570-4AD5-9CA2-563DC9CA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E87C7-5238-4F4D-A9CD-A18EBFF6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BF7A-8D98-442D-A3E7-C3FF84CE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C7074-85C0-4C6F-A97E-3E5D0AB2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A088-A68F-48D0-96D6-7E8008F8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F4F8-C8F0-4F4A-B607-B2ED0CA8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3B2A-62F2-4421-A060-06697108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7A3DD-F274-48CA-82DB-6FF81935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C8980-9C5F-4B93-9FEE-7A24BAD5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818D-C9D0-4F41-9BFA-75D29CF2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A472-C6B6-4430-99CE-9352C325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193-BBC9-4663-95E8-62FB592B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F090F-0FD1-4D15-A853-75E87CBF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990E5-C6A6-44D3-8F81-4AC3980C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C4F5-3D77-4B78-B502-DADAF9D1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1ACF-AFB2-4FDE-8782-9051DD34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A5205-59AC-4FCF-AB30-716EE68A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8CC7F-5F47-48EC-BCA8-619AF6AE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B516F-9DA3-465F-9D5A-7FC7B58C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B962-A2CA-4CED-BA6D-9AB4A0A1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32C17-BFB9-4514-B6B6-0320BE83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E86FD-6831-45CC-A35D-4DF1C761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317-DF23-4202-93A2-24447DE7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E0C14-23C1-43F8-BBA7-7DCDF04C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E3853-84C4-4CFF-8B1D-AB4AA910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9F3EF-D6A4-40CA-92C1-825D0E21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8EE1-ADB7-44DC-A2F3-342B1FDF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88B03-366A-41C5-BACC-DB409132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042B3-1A2E-42AA-9C94-4D9FDECD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0B491-7A7F-4C0B-9E52-357A48E0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E943A-BA62-4B74-A2FF-E6A4DB1A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D508E-613D-4128-BCCE-DEFD63AE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9DC9B-A218-41FE-A58E-FB89E8BB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9F2-278D-47D7-8890-6E1C2C93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4499C-9D3F-4DE9-BBB4-DBF2F861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98BE8-E766-47CB-8882-A8BDE394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02B69-1539-43CB-A837-15479966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13DB6-10F5-4C9C-8B5A-53CB4630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22B71-016F-45D6-B92F-0C3F3A93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EB95D-4FA6-49C7-83B0-8B65420A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699B5-BCDB-45D5-BE56-9AE08E96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BD425-E402-4268-99BD-59CA8D34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86412-CA3A-4154-9F30-609044B1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A6A71-2F1B-4A89-BB3F-0B801D34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2D8-18EA-4668-8AEB-7A0F81B1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EF849-4CE6-4932-B28B-428413C8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D7157-1B79-470A-88AD-159CE686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8F9D6-4C8B-42FF-9131-FAD3C72E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DF0CF-D25F-4490-ABBE-6D096498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536B5-ADCB-4048-8CF3-0691635E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FE9B1-DEA5-469C-BC77-397A0DBC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D059F-EAD1-465A-99F2-ACD6D3FD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3FA89-9FE3-4AEB-B1A4-9CBDA263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9186C-85AF-4BB5-990F-0A4A1B33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75A4F-8144-43ED-80D8-C920B3E3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0EF-AEF7-4D52-B558-DA262B4E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92390-6FDA-4881-8D00-DDF6228D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66E19-8EEF-439A-988D-537F2915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FF380-FDA9-42B9-A653-62418CBD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FF250-C4F4-4716-9D84-4BDBF209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31C7F-A1F4-48D7-BB5E-8D924CCF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B9D33-8809-4D9F-B0D6-6D475D29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BEB4A-4835-4486-AB5D-DEE6E5A5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73270-9CEE-4C20-8B11-F0112979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CA6A3-5ADC-436A-9F0C-569651B7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C5342-F548-4051-827D-8FCFD592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D8C-C153-4163-B5E8-F1AF2F72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696FE-3976-42E1-83E7-7FE791A7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09348-2CEF-45B8-8359-947FA782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83FA0-60B6-49C3-B5D1-0662D6A0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18B44-E3E6-4131-968A-9D5F4BAD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685E6-3852-4245-A21D-F3C987ED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5618C-8BAD-4F69-8364-726D55AE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9355B-16C4-46D0-BEC0-29B1EE78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A801-9766-4C97-A729-C3DED22F130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D117-E483-4991-8FDE-CC0DC0475597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C491-1B22-4B9B-AC14-FC09114A93C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0724-925D-4E9E-BBC1-AFB58193E4D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9F43-A852-4EBA-8D04-247AC86B8A76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AFAD-E81A-4719-BC34-D0A99A3B7EB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00B0-0A74-4D50-9DA7-45AB753C64E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A2DF-8036-4815-AC21-A3976F4CCED5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hlbi.nih.gov/health/dci/Diseases/hhw/hhw_pumping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2627280" y="1916280"/>
            <a:ext cx="23763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returns from the lungs via the pulmonary veins, and enters the left atri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passes through another atrioventricular valve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icuspid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enter the left ventricle, which is heavily muscle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passes through the aortic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it is pumped to the aorta, where the oxygenated blood is sent through  all of the body syst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eart can beat for a short time if it has been removed from the bo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shows that the heart muscles can stimulate its own contractions, without help from other sources, these muscles are known a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yogenic musc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two specialized bundles of nerv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oatrial (SA) node –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timulates the muscle cells to contract and relax rhythmically; is located in the right atrium and it generates an electrical signal that spreads over the atria so they contract simultaneous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trioventricular (AV) node –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which transmits the signal through a bundle of fibres that initiate the almost simultaneous contraction of the ventric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en though the heart is self regulated the heart rate can be changed by our nervous system if need b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11280" y="5516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Calibri"/>
                <a:ea typeface="Arial"/>
                <a:hlinkClick r:id="rId1"/>
              </a:rPr>
              <a:t>http://www.nhlbi.nih.gov/health/dci/Diseases/hhw/hhw_pumping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-6480" y="420840"/>
            <a:ext cx="8974440" cy="11635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123840" y="-5724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apter 12: The Circulatory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ction 12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556000" y="5805360"/>
            <a:ext cx="4176720" cy="52020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A node sends out an electrical stimulus that causes the atria to contrac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D:\Pictures\Bio11\Ch12\FigU4-28_p489.jpg"/>
          <p:cNvPicPr/>
          <p:nvPr/>
        </p:nvPicPr>
        <p:blipFill>
          <a:blip r:embed="rId2"/>
          <a:stretch/>
        </p:blipFill>
        <p:spPr>
          <a:xfrm>
            <a:off x="684360" y="1268280"/>
            <a:ext cx="750096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ost heart functions are analyzed by measuring the electrical pulses generated by the nerve signals that stimulate contraction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se create milliVolt charges that can be detected with electrodes on the ski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n ECG allows doctors to determine if the heart is generating signals of normal strength, frequency, and duratio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D:\Pictures\Bio11\Ch12\FigU4-30_p490.jpg"/>
          <p:cNvPicPr/>
          <p:nvPr/>
        </p:nvPicPr>
        <p:blipFill>
          <a:blip r:embed="rId2"/>
          <a:stretch/>
        </p:blipFill>
        <p:spPr>
          <a:xfrm>
            <a:off x="1116000" y="4253040"/>
            <a:ext cx="61833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 p. 500 # 1, 6, 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and summarize Coronary Artery Disease – p. 501-50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eart pumps 70 times a minute, 90 000 times a d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pushes blood through thousands of kms of blood vessels, most of which are tiny capill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capable of rapid changes in pace as the situation requi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heart is about the size of your f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e heart has four chambers: two atria (sing. Atrium) and two ventricle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Atria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 receive blood from the blood vessels, and move it to the ventricles and have relatively thin wall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Ventricles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 receive blood from the atria, and send it to either the lungs, or the rest of the body and have very thick wall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The heart is separated into two pumps by a wall of muscle called the </a:t>
            </a: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septum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right side receives blood from the body’s veins via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ena cav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(superior or inferior) and pumps it to the lungs (where it picks up oxygen) through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ulmonary arte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oxygenated blood returns from the lungs via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ulmonary vein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enters the left atrium, and travels to the left ventricle and then the heart pumps it through the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ort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to flow to the rest of the bod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763272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4608360" y="3421080"/>
            <a:ext cx="4535640" cy="3433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alves control the flow of blood through the hear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trioventricular valv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– lets blood move from the atria into the ventricles; the tricuspid is on the right and bicuspid (or mitral) is on the lef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s -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lets blood flow through the ventricles into the large arteries; the pulmonary is on the right and allows blood flow through to the lungs and the aortic is 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left and allows bloo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flow to the rest of the bod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normal sound of the heartbeat, heard with a stethoscope, is described as “lub-DUB.”  These sounds are made as valves clos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7400" indent="-194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lub” is the closing of the atrioventricular va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7400" indent="-1940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UB” is the closing of the semilunar val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ound variations can indicate heart problems, such as a stenosis murmur, or narrowing of a heart valve or arte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34BF-35EC-4400-9B94-BF31A49EB076}" type="slidenum"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1324080" y="1131840"/>
            <a:ext cx="66564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11280" y="1197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oxygenated blood first enters the heart through  superior or inferior vena cava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perior vena cava receives blood from above the heart, while the inferior vena cava receives blood from the rest of the bod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 arrives in the right atrium, where it passes through the atrioventricular valve (tricuspid), to the right ventricl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lood is pumped through the pulmonary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emilunar valv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om the right ventricle to the pulmonary arteries which carry the deoxygenated blood to the lun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0:51:34Z</dcterms:created>
  <dc:creator>Brian</dc:creator>
  <dc:description/>
  <dc:language>en-US</dc:language>
  <cp:lastModifiedBy>Tien, Jean (EDU)</cp:lastModifiedBy>
  <cp:lastPrinted>2012-11-13T16:29:27Z</cp:lastPrinted>
  <dcterms:modified xsi:type="dcterms:W3CDTF">2018-01-17T14:59:17Z</dcterms:modified>
  <cp:revision>14</cp:revision>
  <dc:subject/>
  <dc:title>PowerPoint Presentation</dc:title>
</cp:coreProperties>
</file>