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1641-0298-4EC8-B3B9-B8642C098A2B}" type="slidenum">
              <a:rPr b="0" lang="en-CA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ABF2-3F6F-44C6-ADB9-64C57BCA4897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4C1F-0933-40B6-98C5-F1C23BE0B0B7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6A93-033E-45D5-83EC-611831D318CA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993E-916D-42FB-8AD9-EBE35C65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7249-870A-491D-A664-7ED40096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2BD4B-E3B9-4FAF-91D7-E25CEAF1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FEAAC-3A04-432D-B2BC-2CCC3FFB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72C93-69BB-4DD7-A1BD-7DCEA7A9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F7DFD-8C5C-44B9-9175-ABF60D11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D24BD-A82D-4449-B57B-D237D2A5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F15AC-CC7A-4607-8F9E-345D9BD6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B9D8C-279A-4DF4-AB0E-73707E8A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9E7FD-B224-4247-A5AC-BAF86048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B7EB1-DE05-40E3-989F-0D2BC0B9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1EC-8A9E-4C60-9AD7-63FA5A66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AEF-3260-4D1C-8B1D-23534CD3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2AB7-8EE7-450E-BD0B-65EE665F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D860-B2FA-4BEC-93A1-A417957E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A2EE-A62F-4A74-90C3-CE66FB0C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BB3F-283F-470D-952F-F5EB1028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FED0-C700-40DE-ADFB-CC592B99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EDBF-E162-49A7-B995-7E455E1F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A375-FF79-4569-8187-069603C9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2C0-F0CA-48B7-A24F-E285D050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AFDD-F2A7-4302-90A4-E96533E5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FF30-1734-4ABD-B3CC-505EDFAF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8933-9D3F-45C7-B37A-E739CED3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03D4-8BE7-40D5-891D-DFC8DEA2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343D-8A3A-4EBC-ABD3-24EF052C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BA7D0-04CE-40CC-8F7A-A3D3A90E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76147-FD4A-4CA5-968A-374BA111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01751-2905-44FB-869C-5214A382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35D09-F4DE-4A5E-984F-99C581BD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41959-964C-482E-B6A7-3437ECA6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882-4793-480E-B864-DD2DF0D7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952C8-CA56-4AB4-AF99-C9FA75C1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7CD5E-FC71-4F7A-BE16-6259B7B2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1EF3C-BC15-40C0-8505-E6EFCB44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39EC8-06FB-402A-AE53-7801B38F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AD874-8B89-4E73-BB70-E6532416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13007-0D3B-4F66-AFA8-7AB60B20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67B9B-CA03-4A40-AEB0-F7A3E6B5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58F2D-1921-4555-A1D3-738EEFC9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A559C-E80E-4AEA-AAD0-56BE947E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93656-1F61-497C-9B0C-6426FC28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C6A-D47C-4ABF-922A-7C8BD3DE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B1684-69BC-4556-A99D-880AF2E5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A1F3A-B5A0-4BC0-85D3-86E5BF09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EA6F0-8B60-430B-B905-97AFAF4F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91548-4A88-4D32-A166-0D0813D1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B2220-61D5-41DD-B75A-09C2A904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68DFD-0E7E-4916-B7F7-FA7D2241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FAD48-4BAA-4706-87B2-1825ADA5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FDA45-F68C-47FD-ACD5-238B6709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85E6B-239E-424D-B6AA-7754399D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5F05A-A018-4AAB-B72E-4652BD3C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792-4BD2-455D-AF3A-B2A380C7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07A8F-50BA-43B7-A569-CFE05ABD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6B787-4D01-47AD-8E84-EF415162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BCE74-3249-4728-A7F0-90D327CC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9B6A3-E565-4911-AF6B-DB825D71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6BB4D-23EA-4764-B26C-621A751F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72650-11E6-4836-B2C7-5AC67248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143BC-9099-4FE1-9141-3FE37955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9B805-586D-401F-A7D1-89029C80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21DCF-58B0-415F-88AC-F23360E2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81B0B-0B09-4213-AD34-1976965C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41C-95FD-4808-91F3-6895231A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45135-7F52-4AC3-AB6E-736FE4E9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7C306-23E2-48E3-9656-39BC4E46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DC379-E23B-4FDA-9E7B-AF759CFC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966E7-05F9-4EB4-90D0-2861C978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EC745-154B-4E7A-9833-B9367FFD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37854-BFB1-4CF7-A445-4A4BE1BA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72302-6FFB-410B-8FB8-E1E12369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11470-1701-4C75-B9F3-D634AB8F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E4512-8903-478A-BDAA-8721586C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F88E5-CF78-4ABA-B7FA-8C8008B1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676-F933-4CB0-A50A-37B8A65A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6CEFA-3BF1-4180-BF9D-C08474AF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7C1E2-C542-4B05-B17F-E92FD21B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E62F4-1EE5-4272-9542-B98E54C1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CD6EF-3AA6-422C-AC8F-A32D2700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AEFE6-4FDA-43E7-89F5-338EC4A4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7C280-BB0E-49D9-BFEE-F05F8AAF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47EEA-3033-42B5-9BE4-10079E0E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7E8E1-95CB-4312-B94F-9AB8A1B0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D2552-7931-4BD2-9457-FD83816F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08CCC-CEEB-4534-B555-B94DEDEA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E46-E77D-426A-94E7-4110521D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C0853-CE25-40F1-ADD0-31FD3AB1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3E617-F81A-4BEC-95B9-107DA073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FE18B-0224-4C33-AE4F-CD5B4D4D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29188-DE10-4938-A12F-ED5A6D1A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1AB5C-288B-4E76-ACDA-FAB8CFEE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39983-2121-4254-BCF5-78136739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68E92-974C-43CE-BE5D-A123A29D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11800-E2FF-4551-A058-6207DCC1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A1067-696B-4FC4-8BE6-B24F420D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DD6AD-ECD5-4FF6-9868-7AC42EBD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356-2330-4D40-B653-99AA97AC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CBF93-A910-4057-8080-1950FCFB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8751D-E6AA-47BD-B15F-11D7359C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62C63-3D52-43DD-A0B2-59876F86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64B13-ABA7-4B08-B5FD-01BAC117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D3A3A-BB13-443C-8FFC-F50DDEB8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1F259-1E99-4132-BDA3-01054BDE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705FD-F29A-4B37-9483-14950807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81EA4-3741-474B-B841-28093188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02CCD-98F2-45AE-B47E-36D0CA2D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3E8F8-4573-48F6-BDAC-D31304CB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B833-4226-438F-9F17-E4D96A3325AA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8290-96A3-42E5-BFF2-C152FFD4392F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49F3-069A-4079-9BB9-21F03239DD40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FB73-E338-4E49-846D-95D8119584FE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8D25-5C75-4571-840A-7A6CC4A49E4D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424C-679E-49E8-BA81-E2EFEF4FC400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F5EF-89F9-41E5-8996-D853428731A5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9C9F-90A6-4C25-91AE-66F2D15DD3E4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0602-5E5A-412C-8919-ED89687EF40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igre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elp uncover the genotype of a particular member of a family, and they can be used to predict phenotypes and genotypes of future offspring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228600" y="620280"/>
            <a:ext cx="868680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 woman who is a carrier o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emophilia and a man who doesn’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ve haemophilia want to hav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. What are the chances thei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 will have hemophilia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 – non hemophiliac, h -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o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,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2482-4652-473B-B1E7-0D55B07FB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Genotyp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henotyp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E19B-FFA8-4CDD-A996-7B3A62E71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For each of the following pedigrees indicate whether the transmission of the trait is autosomal recessive, autosomal dominant or sex-link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8" name="Picture 3" descr="C:\Users\Brian\Pictures\img003.jpg"/>
          <p:cNvPicPr/>
          <p:nvPr/>
        </p:nvPicPr>
        <p:blipFill>
          <a:blip r:embed="rId1"/>
          <a:stretch/>
        </p:blipFill>
        <p:spPr>
          <a:xfrm>
            <a:off x="971640" y="2852640"/>
            <a:ext cx="684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712000" cy="16146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Picture 2" descr="D:\Pictures\Bio11\Ch5\FigU2-18_p219.jpg"/>
          <p:cNvPicPr/>
          <p:nvPr/>
        </p:nvPicPr>
        <p:blipFill>
          <a:blip r:embed="rId2"/>
          <a:stretch/>
        </p:blipFill>
        <p:spPr>
          <a:xfrm>
            <a:off x="2057400" y="1263600"/>
            <a:ext cx="59292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935920" cy="162108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Picture 2" descr="D:\Pictures\Bio11\Ch5\table5.png"/>
          <p:cNvPicPr/>
          <p:nvPr/>
        </p:nvPicPr>
        <p:blipFill>
          <a:blip r:embed="rId2"/>
          <a:stretch/>
        </p:blipFill>
        <p:spPr>
          <a:xfrm>
            <a:off x="306360" y="1268280"/>
            <a:ext cx="8705880" cy="1162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D:\Pictures\Bio11\Ch5\FigU2-19_p221.jpg"/>
          <p:cNvPicPr/>
          <p:nvPr/>
        </p:nvPicPr>
        <p:blipFill>
          <a:blip r:embed="rId3"/>
          <a:stretch/>
        </p:blipFill>
        <p:spPr>
          <a:xfrm>
            <a:off x="299880" y="2565360"/>
            <a:ext cx="4262760" cy="167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Picture 4" descr="D:\Pictures\Bio11\Ch5\FigU2-20_p221.jpg"/>
          <p:cNvPicPr/>
          <p:nvPr/>
        </p:nvPicPr>
        <p:blipFill>
          <a:blip r:embed="rId4"/>
          <a:stretch/>
        </p:blipFill>
        <p:spPr>
          <a:xfrm>
            <a:off x="4691160" y="2560680"/>
            <a:ext cx="379080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7" name="Text Box 4"/>
          <p:cNvSpPr/>
          <p:nvPr/>
        </p:nvSpPr>
        <p:spPr>
          <a:xfrm>
            <a:off x="539640" y="4365720"/>
            <a:ext cx="331308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4888080" y="4473720"/>
            <a:ext cx="381636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Box 3"/>
          <p:cNvSpPr/>
          <p:nvPr/>
        </p:nvSpPr>
        <p:spPr>
          <a:xfrm>
            <a:off x="3213360" y="5651640"/>
            <a:ext cx="53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</a:rPr>
              <a:t>Recall: Autosomal disorders are found on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</a:rPr>
              <a:t>chromosomes 1-22, not on X or Y chromosom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01600" y="146160"/>
            <a:ext cx="8485200" cy="127476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401760" y="4460760"/>
            <a:ext cx="3457440" cy="137268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4641840" y="5200560"/>
            <a:ext cx="3816360" cy="137268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6" name="Picture 2" descr="D:\Pictures\Bio11\Ch5\table5b.png"/>
          <p:cNvPicPr/>
          <p:nvPr/>
        </p:nvPicPr>
        <p:blipFill>
          <a:blip r:embed="rId2"/>
          <a:stretch/>
        </p:blipFill>
        <p:spPr>
          <a:xfrm>
            <a:off x="401760" y="1197000"/>
            <a:ext cx="8480160" cy="1162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D:\Pictures\Bio11\Ch5\FigU2-21_p222.jpg"/>
          <p:cNvPicPr/>
          <p:nvPr/>
        </p:nvPicPr>
        <p:blipFill>
          <a:blip r:embed="rId3"/>
          <a:stretch/>
        </p:blipFill>
        <p:spPr>
          <a:xfrm>
            <a:off x="585720" y="2467080"/>
            <a:ext cx="3853080" cy="15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8" name="Picture 4" descr="D:\Pictures\Bio11\Ch5\FigU2-22_p222.jpg"/>
          <p:cNvPicPr/>
          <p:nvPr/>
        </p:nvPicPr>
        <p:blipFill>
          <a:blip r:embed="rId4"/>
          <a:stretch/>
        </p:blipFill>
        <p:spPr>
          <a:xfrm>
            <a:off x="4879800" y="2687760"/>
            <a:ext cx="3340440" cy="24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69192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The pedigree below shows three generations of a family with one individual (#7) has cystic fibrosis.  Indicate all possible genotypes for all the individu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Picture 3" descr="C:\Users\Brian\Pictures\img003 - Copy.jpg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3800" y="981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individual’s sex is determi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by X and Y chrom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emale:  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al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 females, only one X chromosome is active – one of the X chromosomes is inactivated (at random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 inactivated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s called 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FDAB-F479-4CCD-9421-A5907559B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298440" y="0"/>
            <a:ext cx="8083440" cy="1359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"/>
          <p:cNvPicPr/>
          <p:nvPr/>
        </p:nvPicPr>
        <p:blipFill>
          <a:blip r:embed="rId2"/>
          <a:stretch/>
        </p:blipFill>
        <p:spPr>
          <a:xfrm>
            <a:off x="7308720" y="4888080"/>
            <a:ext cx="172260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-linked genes are located on the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st sex linked traits are carried only on the X chromosome and not on the Y chromosome (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68000" y="1197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n chickens, skin colour is determined by a sex-linked trait. The dominant skin colour is black and the recessive skin colour is green. Show a cross between a heterozygous female and a green male. State the phenotypes and genotypes of the offsp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E5CA-57EB-4627-A39A-FEE300882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0520" y="1294920"/>
            <a:ext cx="815364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s are more likely to ______ these disorders since they only have _______ copy of the ________ chromosom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9A09-D630-441A-9789-A4B645AF9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146160" y="176040"/>
            <a:ext cx="77785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7:47:46Z</dcterms:created>
  <dc:creator>Brian</dc:creator>
  <dc:description/>
  <dc:language>en-US</dc:language>
  <cp:lastModifiedBy>BHN IMAGE</cp:lastModifiedBy>
  <cp:lastPrinted>2012-10-01T12:15:57Z</cp:lastPrinted>
  <dcterms:modified xsi:type="dcterms:W3CDTF">2012-10-01T12:16:48Z</dcterms:modified>
  <cp:revision>8</cp:revision>
  <dc:subject/>
  <dc:title>Pedigrees</dc:title>
</cp:coreProperties>
</file>