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F53D-27FF-497C-8F6D-8AEC4CD45EC2}" type="slidenum">
              <a:rPr b="0" lang="en-CA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1325-1098-45EE-870D-DE746D55544C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A9EF-FD60-424C-B80B-B0E632112017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BC4F-5B29-4B5F-B550-B46A329CF732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AE8-E1B3-48E4-9439-DEC527B8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DD4C-5134-48F2-90B7-8E75817F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B3A4A-AE76-460D-BD60-68AF2658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1B7D5-CECF-4AA0-B097-A4344DD5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DA69F-0C20-42EA-9684-D8BDF2DA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186FA-A7EF-4717-BF0A-AA1DE61A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844E9-0069-464B-BE7F-01463FB8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91CD3-3385-4050-9DA9-87867ADB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13D9F-76D3-47AC-AA3F-1DBE910E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936F2-8976-4327-BFD0-C542DB2C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58F35-9E03-4A0D-A804-415281E7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4467-C5B6-45EE-8573-66D32BBB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B245-164E-44C2-B15A-A1AEC5EC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AB88-1DD6-4FF9-AA02-52C9A94B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9E1F-E0DB-48E4-B28D-8AF23CE2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4A22-F842-48FD-A3DA-9E1C1051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93B7-6479-45DC-881A-88ED81CA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D87A-B11B-4802-8786-92C331FA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BD78-FB4A-40F3-9229-08890350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289A-111B-4B8E-B60A-50562202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A88-51CD-4D6E-B0A1-AE73861A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BEAF-BCC6-4012-BCD0-DAC50924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493C-014E-410F-8F67-5DAF9BCA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2A77-F4C7-46EC-B0A9-9262E178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48AA-906B-4079-95F5-38E9DDD7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4134-1F40-4F2F-8FB3-E077FB45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E4586-669F-4728-83AD-5F69DC92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8215B-44DF-45AB-A804-CA627009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4B5C0-1618-46BA-AD89-C10056A5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A632E-4DC3-4ADB-83BD-83800607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B2274-F254-445F-9572-AA34D4CA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EFF-8ACA-4ADE-B0AA-D77746AD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5F785-A783-43DD-96B8-508B7300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2FA63-ED42-4C89-8FF8-12FF9691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FF661-0AEC-4E0F-B02E-91F5E729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C7D1-BBB3-41D7-A2C6-EE74F174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B0211-7A71-4E64-9C8E-2A592EEF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D069-5E2B-493D-8A73-12FC3A1B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B9E50-2BFB-4F69-AEE0-96D047CD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A56D0-FE7C-4915-A8CF-F8B32C49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FF1EA-6ACB-4B22-8ADD-46830A3D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08A9E-9BD5-41E3-8B21-82F5E2A6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780-A07F-4A3C-9B47-6E1F10A7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54738-ED40-4F24-AD72-FC0D318F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CCF08-96F3-49A4-85A4-C746ED72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E7768-7C9E-45D9-BE15-526638D8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CF3BE-1130-4F7F-BE65-F7E52BD8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CE4A1-8312-4BCD-AC4E-02B7F0C5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DD632-E967-48C3-B6BE-9CA82FFB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F955D-B395-4A33-A90B-6585C34D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C8D75-3CE6-4224-839F-C34D14AA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A42A3-34CA-4A42-B353-D23646B1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541A7-0170-4960-B67C-5B0BBA4C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52D-C981-47CE-B9C3-CF1CD36A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75665-83AE-4068-9979-C37D1176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44B7C-9D47-49DA-A0A3-64EA4954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DF243-BDDA-404B-97D7-098C388C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81429-2C36-47EE-AF20-EC1B1CD9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31E81-66B1-4D0F-90A1-E29519AD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A2781-BE55-491B-9179-EE5F51D8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0DA64-156D-4F70-94EE-F0CC89C7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7E414-C1EC-4C6D-9998-35460717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08453-A53F-4087-9540-B34F8C27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240BC-D85C-471A-87E0-A3607EC6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C06-98E6-40C8-8321-E1AE7002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69239-8FC1-4071-9DCF-E57457F3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F0747-2618-4D6F-A1FE-A5AD3E3E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70D07-BCC2-4228-AD73-7FB31B60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1CB7B-543A-4AF4-8745-7724509F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6D85C-4911-4ABD-8154-6567CC53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18CB7-B67A-44D9-850C-7247A7E4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49D76-108B-4419-8FCE-72EEB659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19D32-5E17-4751-B438-44B4C062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5E6B1-FE7B-4652-B028-387F5B7B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F6DF1-FB42-40C1-8450-0AA93D83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D6AA-7A35-4170-ACE1-C9AE2A62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382D0-92CB-452F-B457-83CA6361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390D7-739B-41EA-9615-3FABB58B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37952-ED29-41CC-B7CA-B35799B3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6E8D3-B5B2-4536-9FD3-83D0E28E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585CF-354C-4191-A773-9BA78485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7FCBD-8A5F-4332-91EA-CFDBCC20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9D8D9-81B5-4455-B513-B7E9F80F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657AA-48B2-4516-ADA3-3534FB11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D4866-5EE9-4222-8957-2327A5A5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EC03A-1B6D-409F-845F-17E46857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317-A774-41C6-B1D9-E78DFEFE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9435B-8152-421A-9E34-B2316B4D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A25E5-446D-4DB9-B345-A64BDFF8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255D7-901C-4894-BD2E-591054C0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47BA9-D3C9-4496-8AF1-3FCCA881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97711-AF9A-4CE7-A5F1-A8E0539A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A0149-0DE3-434A-B6C5-C4E924C2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9FC2A-C15D-43FC-8F95-8C8F1867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A7AE6-8E3B-4B62-A75F-F274441E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88BD1-7503-4948-95FC-7BE4421E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3D7A0-A938-42FD-B65B-BF1B5006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2F1-EA01-4408-8D4A-250A6965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7B412-89A9-433B-80DA-DCA36D4C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75316-1FDC-42A7-BD89-4CA68301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FB630-1733-43EE-A8E6-840FD78C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8BCE5-1DED-4D7B-9EFB-D9D39459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235A3-B565-46D3-91D5-DF63DB7A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079AA-ED75-4337-90D1-90C2BF8D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029F6-9D62-4821-B161-421C2D73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6F757-A824-4D7F-A9C3-99445866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0A531-D1A9-44CB-A1A2-9AA0345C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FF590-AA31-4C87-8176-7F31617C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9F18-2D85-4C4F-8C83-DEB29A9235E3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3101-6C07-42E5-AADF-5CC743159B34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5E19-7D49-411E-82B1-03F593F5E055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B3E9-616B-4989-9B20-D63262BDA30A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6BC0-A45C-4659-A5A3-5E5F538F84F3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5D28-5D96-4F7C-8628-89DF3509B126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D034-4453-4728-94F4-DD8B4A5B1967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08BC-BCCE-4178-8C8E-EC42E7E61939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F3E9-6316-4CFD-A718-08BC1E538E2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igre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elp uncover the genotype of a particular member of a family, and they can be used to predict phenotypes and genotypes of future offspring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228600" y="620280"/>
            <a:ext cx="868680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 woman who is a carrier o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emophilia and a man who doesn’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ve haemophilia want to hav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. What are the chances thei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 will have hemophilia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 – non hemophiliac, h -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o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,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C21B-8130-42B5-AFA0-FE03A9E7A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Genotyp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henotyp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1183-36BF-467A-AE9C-310A85F0C5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For each of the following pedigrees indicate whether the transmission of the trait is autosomal recessive, autosomal dominant or sex-link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8" name="Picture 3" descr="C:\Users\Brian\Pictures\img003.jpg"/>
          <p:cNvPicPr/>
          <p:nvPr/>
        </p:nvPicPr>
        <p:blipFill>
          <a:blip r:embed="rId1"/>
          <a:stretch/>
        </p:blipFill>
        <p:spPr>
          <a:xfrm>
            <a:off x="971640" y="2852640"/>
            <a:ext cx="684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712000" cy="16146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Picture 2" descr="D:\Pictures\Bio11\Ch5\FigU2-18_p219.jpg"/>
          <p:cNvPicPr/>
          <p:nvPr/>
        </p:nvPicPr>
        <p:blipFill>
          <a:blip r:embed="rId2"/>
          <a:stretch/>
        </p:blipFill>
        <p:spPr>
          <a:xfrm>
            <a:off x="2057400" y="1263600"/>
            <a:ext cx="59292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935920" cy="162108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Picture 2" descr="D:\Pictures\Bio11\Ch5\table5.png"/>
          <p:cNvPicPr/>
          <p:nvPr/>
        </p:nvPicPr>
        <p:blipFill>
          <a:blip r:embed="rId2"/>
          <a:stretch/>
        </p:blipFill>
        <p:spPr>
          <a:xfrm>
            <a:off x="306360" y="1268280"/>
            <a:ext cx="8705880" cy="1162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D:\Pictures\Bio11\Ch5\FigU2-19_p221.jpg"/>
          <p:cNvPicPr/>
          <p:nvPr/>
        </p:nvPicPr>
        <p:blipFill>
          <a:blip r:embed="rId3"/>
          <a:stretch/>
        </p:blipFill>
        <p:spPr>
          <a:xfrm>
            <a:off x="299880" y="2565360"/>
            <a:ext cx="4262760" cy="167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Picture 4" descr="D:\Pictures\Bio11\Ch5\FigU2-20_p221.jpg"/>
          <p:cNvPicPr/>
          <p:nvPr/>
        </p:nvPicPr>
        <p:blipFill>
          <a:blip r:embed="rId4"/>
          <a:stretch/>
        </p:blipFill>
        <p:spPr>
          <a:xfrm>
            <a:off x="4691160" y="2560680"/>
            <a:ext cx="379080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7" name="Text Box 4"/>
          <p:cNvSpPr/>
          <p:nvPr/>
        </p:nvSpPr>
        <p:spPr>
          <a:xfrm>
            <a:off x="539640" y="4365720"/>
            <a:ext cx="331308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4888080" y="4473720"/>
            <a:ext cx="381636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Box 3"/>
          <p:cNvSpPr/>
          <p:nvPr/>
        </p:nvSpPr>
        <p:spPr>
          <a:xfrm>
            <a:off x="3213360" y="5651640"/>
            <a:ext cx="53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</a:rPr>
              <a:t>Recall: Autosomal disorders are found on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</a:rPr>
              <a:t>chromosomes 1-22, not on X or Y chromosom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01600" y="146160"/>
            <a:ext cx="8485200" cy="127476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401760" y="4460760"/>
            <a:ext cx="3457440" cy="137268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4641840" y="5200560"/>
            <a:ext cx="3816360" cy="137268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6" name="Picture 2" descr="D:\Pictures\Bio11\Ch5\table5b.png"/>
          <p:cNvPicPr/>
          <p:nvPr/>
        </p:nvPicPr>
        <p:blipFill>
          <a:blip r:embed="rId2"/>
          <a:stretch/>
        </p:blipFill>
        <p:spPr>
          <a:xfrm>
            <a:off x="401760" y="1197000"/>
            <a:ext cx="8480160" cy="1162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D:\Pictures\Bio11\Ch5\FigU2-21_p222.jpg"/>
          <p:cNvPicPr/>
          <p:nvPr/>
        </p:nvPicPr>
        <p:blipFill>
          <a:blip r:embed="rId3"/>
          <a:stretch/>
        </p:blipFill>
        <p:spPr>
          <a:xfrm>
            <a:off x="585720" y="2467080"/>
            <a:ext cx="3853080" cy="15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8" name="Picture 4" descr="D:\Pictures\Bio11\Ch5\FigU2-22_p222.jpg"/>
          <p:cNvPicPr/>
          <p:nvPr/>
        </p:nvPicPr>
        <p:blipFill>
          <a:blip r:embed="rId4"/>
          <a:stretch/>
        </p:blipFill>
        <p:spPr>
          <a:xfrm>
            <a:off x="4879800" y="2687760"/>
            <a:ext cx="3340440" cy="24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69192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The pedigree below shows three generations of a family with one individual (#7) has cystic fibrosis.  Indicate all possible genotypes for all the individu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Picture 3" descr="C:\Users\Brian\Pictures\img003 - Copy.jpg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3800" y="981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individual’s sex is determi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by X and Y chrom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emale:  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al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 females, only one X chromosome is active – one of the X chromosomes is inactivated (at random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 inactivated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s called 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E857-6664-4C6C-AF70-F2FAAF1C0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298440" y="0"/>
            <a:ext cx="8083440" cy="1359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"/>
          <p:cNvPicPr/>
          <p:nvPr/>
        </p:nvPicPr>
        <p:blipFill>
          <a:blip r:embed="rId2"/>
          <a:stretch/>
        </p:blipFill>
        <p:spPr>
          <a:xfrm>
            <a:off x="7308720" y="4888080"/>
            <a:ext cx="172260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-linked genes are located on the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st sex linked traits are carried only on the X chromosome and not on the Y chromosome (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68000" y="1197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n chickens, skin colour is determined by a sex-linked trait. The dominant skin colour is black and the recessive skin colour is green. Show a cross between a heterozygous female and a green male. State the phenotypes and genotypes of the offsp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A99A-361C-4C35-AA9F-D842132A0E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0520" y="1294920"/>
            <a:ext cx="815364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s are more likely to ______ these disorders since they only have _______ copy of the ________ chromosom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1A1E-9A4C-4990-A3D0-5ABD3DCDC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146160" y="176040"/>
            <a:ext cx="77785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7:47:46Z</dcterms:created>
  <dc:creator>Brian</dc:creator>
  <dc:description/>
  <dc:language>en-US</dc:language>
  <cp:lastModifiedBy>BHN IMAGE</cp:lastModifiedBy>
  <cp:lastPrinted>2012-10-01T12:15:57Z</cp:lastPrinted>
  <dcterms:modified xsi:type="dcterms:W3CDTF">2012-10-01T12:16:48Z</dcterms:modified>
  <cp:revision>8</cp:revision>
  <dc:subject/>
  <dc:title>Pedigrees</dc:title>
</cp:coreProperties>
</file>