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428C-E0B3-4C73-A577-8981A0257E91}" type="slidenum"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6C5B-429F-4694-912C-AE378D810BED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4B7C-ADBF-479D-A40F-A7006C0614C9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797F-CB4E-4C11-8D4A-387F7D62E9EE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B09-2544-44D8-845D-098ED382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363-C08D-4A3D-B911-AE2665C1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B3E0E-0BC3-40C8-A3BE-5DCD0961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EAEC2-E444-4B5F-8F97-0A51D3A2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C5D97-5A46-4011-ADC1-443E203A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246A8-1E2E-4606-9962-B869D0E6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3E606-B94A-4B28-BA9C-8C29120D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87DE3-C6BB-4ADD-A114-13524F52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DFC20-3A8C-42F7-BEC8-9332E32A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21699-C529-4AB8-BC3B-A2547CB0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7041E-CB12-48BA-A6D2-3CEDF01D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022-9C9C-4F98-AD4C-52623393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E46-CC82-4605-BB5D-8B54C26F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0C9E-95D2-40D4-9CFF-354A0C95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E3B8-7A1A-4FB8-8769-59A6A32F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F0E8-BA94-4F29-ABCE-915E7F9F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4282-F017-4C48-B2D6-2AD042E5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2F46-47C1-45D7-AE61-69E2E025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365B-823D-44F7-8790-3F18093D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E0B4-B6B6-43E0-9E1E-29987820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F21-64FD-406A-B322-67F1C817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C9D7-0D1A-4F7B-8CD5-08B3F4C7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D951-9B08-48C1-B054-7297137F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0B62-090C-4C31-A32C-951138CA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DE44-761E-4C5A-807A-6D96E3C3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103C-EB12-4DB5-BDF7-9709357E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F036C-0D41-44C1-AF0C-9BF862EB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5637-8337-4000-89D3-80AED49F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7E2E6-BE87-4B65-A9D3-0BCB74E5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C7AC-5B5A-4DB0-8319-099195C6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82A2-FBA5-40E8-8440-316DF647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0F0-76E6-4630-9749-E3F352B7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6144-4C71-4BFC-82DF-76E4D7D8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E35E-B035-4690-879F-0A096680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4264-4CAF-402C-B0DD-0291AE52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87AF7-A03C-4623-9682-D4597002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E6A2-14B1-48B6-831A-137AFA4B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B19C-8A7E-46D2-A8E4-EF8D8E5F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1CD6-D15E-4AC2-96CA-BA64974D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E9F5-D9D4-443A-A684-757FD1AC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0548-4757-4D5E-8567-C83694FB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8618-2594-4337-9556-DAF31239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9A9-98A6-49AB-BF2D-7F3495E2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2A97B-2DD2-46CF-B4F0-18AFEF6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38625-525D-4024-BE47-8CAE0787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E57E6-1244-45CC-A2FF-BEE5944A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001E-63C5-4BCB-996D-345FA843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8D4F3-285D-4015-90EF-54DC6875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C0EB0-A3FA-408E-9BAC-DBD8F59D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5723-4DBB-4334-82C8-BF0A1E3A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5E8B-1F1D-4C44-9BD1-879CF0AE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50A1-BBE2-429B-85FC-38B23B07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3A3F2-2451-4968-B3AF-87A9A4BF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70E-DA38-4A95-BE64-2178CE38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C82C3-7CDC-452F-B28E-5DA974EA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CCDF-9935-460B-A243-8FCC9C68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75FBA-E592-47E0-83B8-29A2CA0D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B8FAB-6667-474A-88AC-397471D5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367CE-AEEA-426A-AD36-81A44A77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944DF-41CF-4BF8-88EB-CA3F74A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B6FB-5F9E-41EB-8CB6-7A605860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0A46-29D1-45CF-AEB0-F60FA4E3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EE8EB-09B1-4348-BCC5-4235A783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978F0-E90F-4D29-B7BC-8CFDB20C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038-CA86-49E9-80DF-9C131571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ABC77-CA4F-4998-BAF8-B42DA75E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AB742-B80E-4E61-9BAF-2B2F91A8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35316-CCC0-49AD-A50D-C06E2D8A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F92C8-33EB-4A12-AFEC-A3C16CA5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97BC8-E1E7-4FF4-870C-92CB7A1D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C6971-BF07-4A3A-91BB-8DFBA76C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5072B-DEF3-4801-838A-B59940CD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9A95C-304F-47DF-BB82-B1D9DEAF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09560-96AB-4240-BC7D-7E95E0D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4BBFC-788A-409D-8D8E-4CF1D7DE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0CE-20F3-47D0-85D4-36BCF4B3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BA2A4-EFBE-44A4-95AC-ECD0491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35394-42EF-4A79-9985-B932D6EB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290DC-0EE9-46DE-96FD-A6DBBC4B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C5DE5-848E-4E8E-B437-D93D4179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04660-A4CB-43D8-8E1D-6F0A3C78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33FC7-B79E-4045-BFC4-0171DFBF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CA229-B011-4895-BA2B-F8268C5B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30825-46F2-46C0-8B35-394E133A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A6B53-85E7-4926-8980-8FC4434E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8380D-A231-47A5-A7F5-2511D79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C85-1706-42E6-9D04-5CE5B0FB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01C65-BD78-45C5-8AA1-7B49365C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DF6CC-B7E1-40E5-93F4-A83F694E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92373-82CA-40AC-9D3F-E196DFE0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90FD9-811E-42B9-B3C1-F6F2E74E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74D64-EEE6-4EE5-B4EF-F7BD296D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0C56C-9241-4FEC-B3F3-FB2D09E6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D9E44-4225-4AA7-8724-B306B8C3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A9906-232E-41ED-B2A9-F7D011B8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A7BFE-05DD-468A-8562-F5570518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E64D4-1FA7-4613-9BA3-9125E8FE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8EC-7556-47ED-B304-86E53489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BF7FD-812D-4F9A-84C6-C551C988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F2EB9-5041-4AD0-8390-C6FA484D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6D581-D435-4AED-A971-64919400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2BE58-8E36-4632-96D9-041BE210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E95D3-264F-4950-874E-460AB522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7BEDA-1505-4A3D-A4D1-1FFFB240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DBE94-8E81-4D56-8C64-98E48D0F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7A433-4225-48C1-86D4-72880B45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97C6F-8F41-4509-A524-E21A6F19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23A5B-6F9B-4F24-AF97-D28DD903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0C57-BB7D-410F-9B55-8ABE6790FB45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9AE7-2770-4D90-8E25-F0CEE802FB99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92E9-D715-4AF0-8326-386A1020FB63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A484-E3E6-4A0D-80E2-535283C72D91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3221-5CE9-4CE0-AE33-316E43006CFE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23D0-ECCB-4F5E-8FBA-68BE16A6255B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7732-46FD-48C9-B690-EA2125AFDD94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08DE-AE59-42B5-BEA4-167406822F14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E8A0-03AD-407C-8BB6-0AD48AB6FA8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re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uncover the genotype of a particular member of a family, and they can be used to predict phenotypes and genotypes of future offspring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28600" y="620280"/>
            <a:ext cx="86868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 woman who is a carrier o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emophilia and a man who doesn’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ve haemophilia want to hav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. What are the chances thei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 will have hemophilia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 – non hemophiliac, h 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o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,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4DD7-DA78-4ED4-852D-F0EA016ED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C8ED-A71D-44F2-B9D5-D0D6FC0C2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For each of the following pedigrees indicate whether the transmission of the trait is autosomal recessive, autosomal dominant or sex-link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Picture 3" descr="C:\Users\Brian\Pictures\img003.jpg"/>
          <p:cNvPicPr/>
          <p:nvPr/>
        </p:nvPicPr>
        <p:blipFill>
          <a:blip r:embed="rId1"/>
          <a:stretch/>
        </p:blipFill>
        <p:spPr>
          <a:xfrm>
            <a:off x="971640" y="2852640"/>
            <a:ext cx="684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712000" cy="16146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2" descr="D:\Pictures\Bio11\Ch5\FigU2-18_p219.jpg"/>
          <p:cNvPicPr/>
          <p:nvPr/>
        </p:nvPicPr>
        <p:blipFill>
          <a:blip r:embed="rId2"/>
          <a:stretch/>
        </p:blipFill>
        <p:spPr>
          <a:xfrm>
            <a:off x="2057400" y="1263600"/>
            <a:ext cx="5929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35920" cy="162108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Picture 2" descr="D:\Pictures\Bio11\Ch5\table5.png"/>
          <p:cNvPicPr/>
          <p:nvPr/>
        </p:nvPicPr>
        <p:blipFill>
          <a:blip r:embed="rId2"/>
          <a:stretch/>
        </p:blipFill>
        <p:spPr>
          <a:xfrm>
            <a:off x="306360" y="1268280"/>
            <a:ext cx="8705880" cy="1162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D:\Pictures\Bio11\Ch5\FigU2-19_p221.jpg"/>
          <p:cNvPicPr/>
          <p:nvPr/>
        </p:nvPicPr>
        <p:blipFill>
          <a:blip r:embed="rId3"/>
          <a:stretch/>
        </p:blipFill>
        <p:spPr>
          <a:xfrm>
            <a:off x="299880" y="2565360"/>
            <a:ext cx="426276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4" descr="D:\Pictures\Bio11\Ch5\FigU2-20_p221.jpg"/>
          <p:cNvPicPr/>
          <p:nvPr/>
        </p:nvPicPr>
        <p:blipFill>
          <a:blip r:embed="rId4"/>
          <a:stretch/>
        </p:blipFill>
        <p:spPr>
          <a:xfrm>
            <a:off x="4691160" y="2560680"/>
            <a:ext cx="379080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Text Box 4"/>
          <p:cNvSpPr/>
          <p:nvPr/>
        </p:nvSpPr>
        <p:spPr>
          <a:xfrm>
            <a:off x="539640" y="4365720"/>
            <a:ext cx="331308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4888080" y="4473720"/>
            <a:ext cx="381636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3"/>
          <p:cNvSpPr/>
          <p:nvPr/>
        </p:nvSpPr>
        <p:spPr>
          <a:xfrm>
            <a:off x="3213360" y="565164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Recall: Autosomal disorders are found 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chromosomes 1-22, not on X or Y chromosom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485200" cy="12747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401760" y="4460760"/>
            <a:ext cx="345744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641840" y="5200560"/>
            <a:ext cx="381636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Picture 2" descr="D:\Pictures\Bio11\Ch5\table5b.png"/>
          <p:cNvPicPr/>
          <p:nvPr/>
        </p:nvPicPr>
        <p:blipFill>
          <a:blip r:embed="rId2"/>
          <a:stretch/>
        </p:blipFill>
        <p:spPr>
          <a:xfrm>
            <a:off x="401760" y="1197000"/>
            <a:ext cx="8480160" cy="116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D:\Pictures\Bio11\Ch5\FigU2-21_p222.jpg"/>
          <p:cNvPicPr/>
          <p:nvPr/>
        </p:nvPicPr>
        <p:blipFill>
          <a:blip r:embed="rId3"/>
          <a:stretch/>
        </p:blipFill>
        <p:spPr>
          <a:xfrm>
            <a:off x="585720" y="2467080"/>
            <a:ext cx="3853080" cy="15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8" name="Picture 4" descr="D:\Pictures\Bio11\Ch5\FigU2-22_p222.jpg"/>
          <p:cNvPicPr/>
          <p:nvPr/>
        </p:nvPicPr>
        <p:blipFill>
          <a:blip r:embed="rId4"/>
          <a:stretch/>
        </p:blipFill>
        <p:spPr>
          <a:xfrm>
            <a:off x="4879800" y="2687760"/>
            <a:ext cx="334044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The pedigree below shows three generations of a family with one individual (#7) has cystic fibrosis.  Indicate all possible genotypes for all the individu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Picture 3" descr="C:\Users\Brian\Pictures\img003 - Copy.jpg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3800" y="981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individual’s sex is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y X and Y chrom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emale:  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l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females, only one X chromosome is active – one of the X chromosomes is inactivated (at rand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inactivated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called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FF3C-E401-4793-AA81-0F8FEB38E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98440" y="0"/>
            <a:ext cx="8083440" cy="1359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"/>
          <p:cNvPicPr/>
          <p:nvPr/>
        </p:nvPicPr>
        <p:blipFill>
          <a:blip r:embed="rId2"/>
          <a:stretch/>
        </p:blipFill>
        <p:spPr>
          <a:xfrm>
            <a:off x="7308720" y="4888080"/>
            <a:ext cx="1722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-linked genes are located on the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st sex linked traits are carried only on the X chromosome and not on the Y chromosome (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6800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 chickens, skin colour is determined by a sex-linked trait. The dominant skin colour is black and the recessive skin colour is green. Show a cross between a heterozygous female and a green male. State the phenotypes and genotypes of the offsp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D8C0-B4E4-4928-BC43-31ED3E18A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0520" y="1294920"/>
            <a:ext cx="81536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s are more likely to ______ these disorders since they only have _______ copy of the ________ chromosom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CBEA-AF49-4A0E-B546-A35611DB6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7778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7:47:46Z</dcterms:created>
  <dc:creator>Brian</dc:creator>
  <dc:description/>
  <dc:language>en-US</dc:language>
  <cp:lastModifiedBy>BHN IMAGE</cp:lastModifiedBy>
  <cp:lastPrinted>2012-10-01T12:15:57Z</cp:lastPrinted>
  <dcterms:modified xsi:type="dcterms:W3CDTF">2012-10-01T12:16:48Z</dcterms:modified>
  <cp:revision>8</cp:revision>
  <dc:subject/>
  <dc:title>Pedigrees</dc:title>
</cp:coreProperties>
</file>