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807E-97C3-4000-A637-DF06E8849C6D}" type="slidenum">
              <a:rPr b="0" lang="en-CA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60E6-5AAB-4F40-A6EB-0CBF506B1F68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587E-DDEB-444C-8847-4A124E125570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D6FE-883D-4A8D-918F-1D02807B8561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925-BB9C-49D8-B463-C6915AD4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86E-31CA-4421-AEED-077ED4BD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B3636-D16A-4B5D-BCC8-026A9DC9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A0822-A468-4264-A895-0AB8E44C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2517F-B783-4091-AE9A-47F7A640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B050A-8685-4602-8182-32F6AFD4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C8D48-EDB2-4496-961A-32AAC792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2DE35-8B1A-49F3-94AE-4059C5DB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9538B-8907-4773-93B2-B0810637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10562-8773-48CD-AC64-733D20EA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C9CCB-0A2F-45FA-B749-0AAF99FE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5DE-B004-423A-BD77-39D3D243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603-CFE4-487D-BBA9-4CFAEAB4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D1D7-0B7A-4DB3-B363-2DBEF310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2349-CEB7-4783-AE05-E08F5045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2850-8108-4683-9E9B-1FB812F0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52C7-41DF-4E33-81E2-9A9842BB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D864-F59B-4CFC-83B3-0BC262B8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2505-3A58-4BAD-997A-9F9E1733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5C4C-9404-4ED3-8B04-D4C44E35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812-E88F-428F-AF23-06057D4A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372B-DFE7-4260-A2E5-447E488B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6F02-636B-45A7-AE1B-5184297C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8AD7-9B08-4C4D-AE58-551956FC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7185-8EB6-496C-A7C8-C768BC35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20E7-D936-48C3-B6F0-915050B8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7B2C1-CE33-4889-AB07-4B90E356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1814-503E-4A8A-98BA-91DDF483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0CF4-A5CB-4A54-8FB9-F7F63F0A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AD531-7348-473F-A0CB-F230395A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645E-F49C-4341-B847-25CB134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E2E-409F-4020-B896-75DE4EC6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AFE6-BCF4-4AA6-B133-F5869428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C64B-6BB1-445B-9C2F-A0EBFEB3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A8478-6F0B-496A-B46A-55715A87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ADB8-231F-4AFF-A3E0-F4813146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0F63-5F91-4587-9BB6-8FB4C357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EFC1-41D3-48FA-A447-2B02B1EA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83A4-F2E3-4EF3-8767-61C6454D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048D6-867F-4760-A9BB-D188A84D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7E88-EF08-473B-AF9D-8913819D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A99A-641E-42F2-8745-43AD62AB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32F-7519-4FE1-B9EA-E6140D2D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F05C-8DBD-4BA4-8802-AE029D52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C759C-FF32-473D-9331-8EEF2F21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47732-59B9-499F-AF8E-19050486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4FD34-6403-41BE-B55D-815DEA14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5819-4DE8-4C7F-BDC2-F770EAD5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31F25-3E72-4B2C-AA70-DF620684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D9D44-EA61-4DE0-B1F7-33A61352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94C11-DFA3-4E89-AF45-AAEF2280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384BD-2C1C-4F81-A511-9E53D38C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832C1-4698-4E95-BA35-D1A441CC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B33-4030-4DB4-8124-DD0143A1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B81C-A870-4D70-A897-C4FBB010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17AE7-E40A-4506-AC26-A25310A6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C176C-C070-4D0D-B982-5AC073B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EF836-B46D-4718-819E-42BD0803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3333F-2609-424A-925B-21D41D84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FF26B-06BA-4C89-B47F-4C911C5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E8864-E7F3-4A65-84DF-ED131A1B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83B1-A406-424C-ADAB-65936299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C9C11-CAAD-401F-9C1F-86A93CE9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DA2FB-FBC3-45D4-867C-7117277D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745-22C0-40B0-B304-17765568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28F8A-2E63-4D5E-9AAF-0BD51AAA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F7DF1-A673-4218-91D2-B04C4835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F1916-1F86-4B5D-8157-5D92DCB4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DBC7B-00AF-491C-98EE-7820AD77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6B53C-3053-4BAE-B5E8-C692E03D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C5C81-F074-4DD2-8A99-2FFBA56F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4EB16-6359-4562-A767-78702E7D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C9AA3-AE65-4B18-9AE3-DF0F4393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76825-ED1E-4BF6-ABCF-C85A0035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59C1D-3F35-4F86-9027-9B116BEB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6B3-50FB-4D04-A283-DF43EDB7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6ACD8-1DB2-4FF6-B6A3-998F09CF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1764F-3A2D-468D-88EA-2BC022CC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9D47-637C-4C28-963B-8AA35BC0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14871-9167-4EB4-8E20-229AFD65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7D253-ED2F-4D05-9FF0-A7E45491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FC359-726A-48F1-8878-C1C30ACC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9D228-D726-494A-914F-6633BEA8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7D430-4347-4F11-82B1-A8921020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C2A7D-19B4-45FA-A5FC-C2AAC0BF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7457F-B256-4072-811B-EEAA3405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210-14C2-46D9-91F2-D37CE0AF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1613B-94B4-47A1-BBD0-2636F72F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19B02-D6C2-4B9E-AEE4-08A1E1E9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62C39-84BF-41E4-B768-46D4C3C8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A8D5E-2700-4AF0-8D9C-637D0FDF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74DAC-59EA-4926-A92C-9EBE8C46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82224-94FB-4B4C-A538-31820A70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1DDB1-E573-43B1-BD54-FBE9079C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A784A-D564-43A3-B76C-0F74C594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7A11B-0FC7-4783-AA37-EEA0B230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D16D2-6FF4-46E6-8E11-99BF4BEC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4DA-90F0-4AC4-A119-E1AB8CB4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E7B5A-2514-4091-AF09-848A05BA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22C84-02A4-40D6-87EA-E37E1A6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0ACAA-2EA3-4403-A55B-F4030888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22A35-1D5E-4F02-9D66-1B9F3F8B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E46D4-5504-485C-BBC6-1CE8DFB6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32C58-91D6-4EAE-8CE3-FC9C580E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3D94F-E1C0-4053-86FD-48A2F553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08D3A-DDC1-4396-95AF-D56D2DFF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B7A53-4244-4EE6-9588-B8BF7F56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0C1FC-42EB-49C4-87BB-77812CCB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4328-6486-439C-93DF-E34EEACC5008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7171-261D-4EA9-8374-96041348BCBE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1F79-B013-46FD-AFAF-1573B44F69D4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77EA-48DF-44AC-A3B1-FC136759B9C1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2029-5F9A-465D-AAAB-35524B851F41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DCE5-ADE1-4E7A-ADB9-D9C75783598F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DDFB-E385-4C70-94E2-A080798B09C5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B965-CF5C-42AE-B779-3C8B4234E4D8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2579-27D0-4BD0-9606-08C5E7D164B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re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uncover the genotype of a particular member of a family, and they can be used to predict phenotypes and genotypes of future offspring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28600" y="620280"/>
            <a:ext cx="86868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 woman who is a carrier o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emophilia and a man who doesn’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ve haemophilia want to hav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. What are the chances thei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 will have hemophilia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 – non hemophiliac, h 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o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,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0BEE-CCAB-4CCF-8A2D-6887654F1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2B1C-BC5C-44D8-8504-383A36D5C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For each of the following pedigrees indicate whether the transmission of the trait is autosomal recessive, autosomal dominant or sex-link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Picture 3" descr="C:\Users\Brian\Pictures\img003.jpg"/>
          <p:cNvPicPr/>
          <p:nvPr/>
        </p:nvPicPr>
        <p:blipFill>
          <a:blip r:embed="rId1"/>
          <a:stretch/>
        </p:blipFill>
        <p:spPr>
          <a:xfrm>
            <a:off x="971640" y="2852640"/>
            <a:ext cx="684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712000" cy="16146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2" descr="D:\Pictures\Bio11\Ch5\FigU2-18_p219.jpg"/>
          <p:cNvPicPr/>
          <p:nvPr/>
        </p:nvPicPr>
        <p:blipFill>
          <a:blip r:embed="rId2"/>
          <a:stretch/>
        </p:blipFill>
        <p:spPr>
          <a:xfrm>
            <a:off x="2057400" y="1263600"/>
            <a:ext cx="5929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35920" cy="162108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Picture 2" descr="D:\Pictures\Bio11\Ch5\table5.png"/>
          <p:cNvPicPr/>
          <p:nvPr/>
        </p:nvPicPr>
        <p:blipFill>
          <a:blip r:embed="rId2"/>
          <a:stretch/>
        </p:blipFill>
        <p:spPr>
          <a:xfrm>
            <a:off x="306360" y="1268280"/>
            <a:ext cx="8705880" cy="1162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D:\Pictures\Bio11\Ch5\FigU2-19_p221.jpg"/>
          <p:cNvPicPr/>
          <p:nvPr/>
        </p:nvPicPr>
        <p:blipFill>
          <a:blip r:embed="rId3"/>
          <a:stretch/>
        </p:blipFill>
        <p:spPr>
          <a:xfrm>
            <a:off x="299880" y="2565360"/>
            <a:ext cx="426276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4" descr="D:\Pictures\Bio11\Ch5\FigU2-20_p221.jpg"/>
          <p:cNvPicPr/>
          <p:nvPr/>
        </p:nvPicPr>
        <p:blipFill>
          <a:blip r:embed="rId4"/>
          <a:stretch/>
        </p:blipFill>
        <p:spPr>
          <a:xfrm>
            <a:off x="4691160" y="2560680"/>
            <a:ext cx="379080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Text Box 4"/>
          <p:cNvSpPr/>
          <p:nvPr/>
        </p:nvSpPr>
        <p:spPr>
          <a:xfrm>
            <a:off x="539640" y="4365720"/>
            <a:ext cx="331308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4888080" y="4473720"/>
            <a:ext cx="381636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Box 3"/>
          <p:cNvSpPr/>
          <p:nvPr/>
        </p:nvSpPr>
        <p:spPr>
          <a:xfrm>
            <a:off x="3213360" y="565164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Recall: Autosomal disorders are found 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chromosomes 1-22, not on X or Y chromosom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485200" cy="12747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401760" y="4460760"/>
            <a:ext cx="345744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641840" y="5200560"/>
            <a:ext cx="3816360" cy="137268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Picture 2" descr="D:\Pictures\Bio11\Ch5\table5b.png"/>
          <p:cNvPicPr/>
          <p:nvPr/>
        </p:nvPicPr>
        <p:blipFill>
          <a:blip r:embed="rId2"/>
          <a:stretch/>
        </p:blipFill>
        <p:spPr>
          <a:xfrm>
            <a:off x="401760" y="1197000"/>
            <a:ext cx="8480160" cy="116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D:\Pictures\Bio11\Ch5\FigU2-21_p222.jpg"/>
          <p:cNvPicPr/>
          <p:nvPr/>
        </p:nvPicPr>
        <p:blipFill>
          <a:blip r:embed="rId3"/>
          <a:stretch/>
        </p:blipFill>
        <p:spPr>
          <a:xfrm>
            <a:off x="585720" y="2467080"/>
            <a:ext cx="3853080" cy="15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8" name="Picture 4" descr="D:\Pictures\Bio11\Ch5\FigU2-22_p222.jpg"/>
          <p:cNvPicPr/>
          <p:nvPr/>
        </p:nvPicPr>
        <p:blipFill>
          <a:blip r:embed="rId4"/>
          <a:stretch/>
        </p:blipFill>
        <p:spPr>
          <a:xfrm>
            <a:off x="4879800" y="2687760"/>
            <a:ext cx="334044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The pedigree below shows three generations of a family with one individual (#7) has cystic fibrosis.  Indicate all possible genotypes for all the individu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Picture 3" descr="C:\Users\Brian\Pictures\img003 - Copy.jpg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3800" y="981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individual’s sex is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y X and Y chrom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emale:  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l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females, only one X chromosome is active – one of the X chromosomes is inactivated (at rand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inactivated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called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B4E3-FAE1-40AC-BD32-7AFB23896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298440" y="0"/>
            <a:ext cx="8083440" cy="1359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"/>
          <p:cNvPicPr/>
          <p:nvPr/>
        </p:nvPicPr>
        <p:blipFill>
          <a:blip r:embed="rId2"/>
          <a:stretch/>
        </p:blipFill>
        <p:spPr>
          <a:xfrm>
            <a:off x="7308720" y="4888080"/>
            <a:ext cx="1722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-linked genes are located on the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st sex linked traits are carried only on the X chromosome and not on the Y chromosome (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6800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 chickens, skin colour is determined by a sex-linked trait. The dominant skin colour is black and the recessive skin colour is green. Show a cross between a heterozygous female and a green male. State the phenotypes and genotypes of the offsp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7B91-AE4F-42A3-905A-8E8175F41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0520" y="1294920"/>
            <a:ext cx="81536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s are more likely to ______ these disorders since they only have _______ copy of the ________ chromosom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91AA-7079-4EFE-BA1A-6BBEC6E99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7778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7:47:46Z</dcterms:created>
  <dc:creator>Brian</dc:creator>
  <dc:description/>
  <dc:language>en-US</dc:language>
  <cp:lastModifiedBy>BHN IMAGE</cp:lastModifiedBy>
  <cp:lastPrinted>2012-10-01T12:15:57Z</cp:lastPrinted>
  <dcterms:modified xsi:type="dcterms:W3CDTF">2012-10-01T12:16:48Z</dcterms:modified>
  <cp:revision>8</cp:revision>
  <dc:subject/>
  <dc:title>Pedigrees</dc:title>
</cp:coreProperties>
</file>