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10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EC80-ABBB-4B01-86CF-6396AAC4E5E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80E5-0ABF-4BA4-9E6D-0F91ED8392ED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00EE-DC51-4C5F-8099-F003A51207CD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BE2-1BF4-445D-8D82-F9EA4BE8814B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F87-43BA-4597-98C2-0913986F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783-80A8-4FF7-8E8E-A77F84AE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0F795-B20A-49E3-A1ED-DB7010E8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61128-90EA-4434-83F0-9A1B8E38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E14F1-3BCA-4195-846C-81538E0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3C7CE-41BB-4E33-9A80-206EBEF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1FA93-4F23-4AA5-B9FE-93A1118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85453-97BD-4178-B2B3-080A3561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E29B9-B63B-4D7C-8546-C1789E7D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726EA-4077-4774-88D2-CB96D01D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3BB71-3370-4C5A-95F1-F9AD14B1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026-20E5-43D8-91D5-0F55B727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6FA-A011-4463-BD34-2E097FBD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4A8F-4196-4125-8F5C-713072F9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4AC1-FE60-46CA-B700-346C84B4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6ED-25C9-46F7-9D43-8982CD60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7403-1053-4818-90B3-F2383F2F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A44A-42F1-41E0-9706-0EAFC6C4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F512-D86A-4031-BF83-3C5DD297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EB0B-83CF-4A4C-9D50-82F679F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AC9-8D8C-431F-B3EE-54BEBB00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A9A7-6133-4F75-8633-605B37A7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692D-5713-47F3-94C5-EFA810A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213B-DB44-4F13-A699-29C14437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EFF0-1D56-4886-806C-49B82EBD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3461-CC2B-41DB-8AED-93C1F875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5358-0920-4385-B728-BA9C4E56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3EA6-8622-4B4A-806D-7FB89B31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1677-0D6D-4F0F-96E6-6EE5E02D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D76C-6885-483F-AAFB-0BA38E23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27F3-5F57-4F69-B11C-DF72D227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BE8-1E4C-4AF3-9CB9-246D9DE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9A18-71AA-4C6B-9F07-3C9F3850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9DFF-9C97-4791-8C41-76BB48BD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C4B6-F071-4CB1-AF37-11022C3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342E-96D2-4667-9C1C-70D458C1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863A-2840-42FC-A242-6825F11C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9ED6-D9F9-456C-906B-A6E797B1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903B-640A-402B-99E1-75323E1D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1817-C940-41B5-BA25-857ACA10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131FF-9252-4446-88BD-5DAFA6A0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B47B-35ED-4B44-B538-1DC778DC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9D1-F597-4ADD-9343-67858BAE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980EE-4C9E-4F5A-9A50-683C9DE8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BFEF-C4FB-41EF-8522-41AC74C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553E-8D10-46CE-ADDF-B2E1D25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0545-A738-4DB1-9BFD-4CDA1A3B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A1566-DAD1-4C86-9BBC-EB33AF2C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11B20-7A22-467F-A18C-BBDC15FA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B8BD-6C5C-4F67-9BE9-62D55954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CA2F-650C-4C90-A865-7043E640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7FA1-08DF-4B0A-8A89-B27B5E02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CE13-4143-47CA-8C8F-6CF26F23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5D2-0189-481A-AEC8-5789B651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162AF-44F0-459A-BA3F-A1292033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0556E-5BAD-4A0A-B74F-36254AAB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ED6E-6399-4F66-9229-014F958A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42D6B-5277-45A0-88CD-0143CC96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1CF11-8E0B-4D7E-AD45-B30A04C9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D1AC-8589-47D9-A351-10F3B19C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D8533-1379-4207-8EF2-CE6EA7E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2E963-1A5D-4074-902D-961E1F68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3856-6B67-4AE2-8973-4E7C4629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C40A8-591B-445E-8C56-987FEE40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DA4-2E0A-44D1-BE43-63EE4696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A16D5-196E-4B0F-B30A-1B0A5439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945E6-16B8-4830-A28E-F0DEB38D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7ECFB-BEF9-4D1D-90EB-D235E284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0897-857D-454F-853F-E7CCCA67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17183-52A6-4451-9BAB-883671C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F6A58-6BF6-4CC6-9A3A-5DCB9C32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A2693-49B3-4747-B7CD-BAB9F243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1218C-66F8-4F54-96C2-A7A8ADD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85923-3C85-4DD3-A2F5-DFE3988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DB4FF-0198-49F9-B3CF-8BB89C6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D29-739F-414F-8BB5-3C57C5F0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BBC01-4B17-4BE9-933E-ADB6B124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324A3-3CE5-4411-A10B-49C03F81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33C4-1119-4934-B7E2-26204615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57554-6F9E-4FE0-AFE5-79B19AC6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AA76-9F9D-4EF0-A887-1CC6FC3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7702-AAB2-449D-B90A-DC833CF8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8CE6-273E-4D5D-8837-5487DD91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F2D9C-4C6B-437F-B2D1-57388BC7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4217F-7301-4224-888A-0349A006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43E0-8477-4738-92D7-70E653A6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61F-E987-4AC3-9041-C30F3C8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AAB88-EB3A-4709-9478-5A86DDD1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97DAE-E6A2-4ED8-ADCE-CA9C74B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F8BEB-3697-40A4-AF3A-CEBCD8E3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55E95-E697-4C26-BAE7-B4032E1B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7B85-894F-447E-9298-6B3FF320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5ED16-EAA2-40BC-976A-FE8A9274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D6C7C-0454-49B4-9C1C-7361E115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F89FF-58CF-414A-AE2D-54D1E50C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A2E17-7EE3-402B-8196-D52CD572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5C5F1-709A-4014-BEC8-9484B435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C3C-0E43-4B32-9C0C-CD6604D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DB61B-EFB1-464E-AE9E-4192B046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44546-F290-49EC-A292-1F26326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B1E4-B793-4F0A-9147-D284F196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C28AB-0793-4C35-8735-FE2E7D6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D13B8-94AF-4E3A-8259-BBCB4930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46F5D-1383-4459-A9F0-8291BBC8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D8D48-B9E0-4B12-AC57-B0842E7C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3982A-3A83-4D18-A7E1-F717CC56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73B58-F2EF-4B08-BFC9-1A391AF8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ACACC-CDA1-4094-979F-96EFB016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557F-8053-4E59-B030-BC61C5E3A3C5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E3B8-070E-4341-9093-F5FBC0DD6270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9FB1-E8EF-44BA-A106-EC9AAA9BAA0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896D-E38C-44B9-BCA0-E1F3CF8E032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2ED2-7B82-45F7-B0F9-B9B32DB0EBD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2358-F0C9-463F-BE88-69444B3845F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0FF9-AF97-4E72-8BD8-AB2A7F56B73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6CAF-D8EB-40CE-BDC4-6AA2B4F9F46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2C67-5178-40A9-973F-43C5D88ABB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Carried on the X chromosom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Females can have disease, or be carrier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SHOW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se disorders since they only have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ON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copy of the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Males either have allele for disease (and have disease) or do no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11F3-5D5E-495D-98BE-C6F46FDD9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28240" y="837720"/>
            <a:ext cx="83818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 u="sng">
                <a:solidFill>
                  <a:srgbClr val="000000"/>
                </a:solidFill>
                <a:uFillTx/>
                <a:latin typeface="Lucida Sans Unicode"/>
              </a:rPr>
              <a:t>Haemophilia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A disease in which the blood does not clot 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Severe complications can occur (uncontrolled internal/external bleeding)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Life span is approx. 10 years shorter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 u="sng">
                <a:solidFill>
                  <a:srgbClr val="000000"/>
                </a:solidFill>
                <a:uFillTx/>
                <a:latin typeface="Lucida Sans Unicode"/>
              </a:rPr>
              <a:t>Colour Blindnes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Different form – some can not see colour at all, others confuse colours (blue/yellow or red/green)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3FE9-9C8B-4311-A15C-789FBDBA0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36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1FA5-57D6-496B-BB2D-44187B7AF7DC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4462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761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Normal vision should see ‘57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Colour blindness sees ‘35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8C59-9BB6-46CF-BEBA-538C18991311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305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68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Normal vision should see ‘8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FDC4-F260-4FCF-92A5-566616FC36A5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a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C213-D562-4825-8801-0009847C8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Woma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Ma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429000" y="1371600"/>
          <a:ext cx="5105520" cy="4916520"/>
        </p:xfrm>
        <a:graphic>
          <a:graphicData uri="http://schemas.openxmlformats.org/drawingml/2006/table">
            <a:tbl>
              <a:tblPr/>
              <a:tblGrid>
                <a:gridCol w="1117440"/>
                <a:gridCol w="1914840"/>
                <a:gridCol w="2073240"/>
              </a:tblGrid>
              <a:tr h="15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2" name="Slide Number Placeholder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B8E7-28DB-492B-A6FA-A77A78090C6F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D247-4986-4614-B5AA-4C04C4562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½ Homozygous dominant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Heterozygous (carrier)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½ dominant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recessive (have disease)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½ Non –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Carri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½ Non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A2B2-FBC1-484F-8476-E631F2059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1faecd"/>
                </a:solidFill>
                <a:latin typeface="Times New Roman"/>
                <a:ea typeface="Times New Roman"/>
              </a:rPr>
              <a:t>is a type of flow chart that uses symbols to show the inheritance patterns of traits in a family over many generations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ractice hand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Questions p. 201 #1-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edigree assig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2057400" y="126360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62108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Text Box 4"/>
          <p:cNvSpPr/>
          <p:nvPr/>
        </p:nvSpPr>
        <p:spPr>
          <a:xfrm>
            <a:off x="774720" y="4581360"/>
            <a:ext cx="3313080" cy="94644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An unaffected child born of two affected parents indicates autosomal domina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heritanc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edigree shows the inheritance pattern for an autosomal dominant disorder. Notice that an affected child must have at least one affected parent to be affecte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825480" y="4460760"/>
            <a:ext cx="3457440" cy="94644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 autosomal recessive inheritance, if both parents are heterozygous for th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disorder, they will have an affected chil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641840" y="5200560"/>
            <a:ext cx="3816360" cy="179892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edigree shows the inheritance pattern for an autosomal recessive disorder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ice that the appearance of the recessive phenotype can skip generations, and that tw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unaffected parents can have an affected chil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9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, Male: 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inactivated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called a </a:t>
            </a:r>
            <a:r>
              <a:rPr b="1" lang="en-US" sz="3200" spc="-1" strike="noStrike">
                <a:solidFill>
                  <a:srgbClr val="1faecd"/>
                </a:solidFill>
                <a:latin typeface="Lucida Sans Unicode"/>
              </a:rPr>
              <a:t>Barr bod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5B70-6FDA-453D-AC63-0ECB91981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(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because the X chromosome is large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43F1-F6D5-4694-8FCA-CE1B1FDD2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BHN IMAGE</cp:lastModifiedBy>
  <dcterms:modified xsi:type="dcterms:W3CDTF">2012-10-01T12:16:09Z</dcterms:modified>
  <cp:revision>8</cp:revision>
  <dc:subject/>
  <dc:title>Pedigrees</dc:title>
</cp:coreProperties>
</file>