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10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8A2E-C6AF-4D99-9FA6-143A2454D56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810D-52EF-4E09-B1B9-FCCC15D5D07F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A2F8-76AF-4570-A7B1-BB077C1BE40F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E6EA-2FC7-4399-B219-A7B45DEF3CCF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BBD-CFEB-4EFD-9D36-CB9EC346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115-4A06-40FD-886A-FC5FE1D2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0B342-42DC-4A27-BAFE-6544DD9C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153ED-98E6-4118-A34A-7A18719A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6E5D3-3C16-4025-B0F9-85466088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2E020-02FD-428D-9044-A75B239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D08BA-C10B-403E-AE54-B01F0D39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E7224-F135-42E3-899A-E4C6DF61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1F84F-DD47-45A1-A644-B04771DF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1218A-D335-4A89-A157-1502E799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433C4-E6B1-4A82-B54A-7718223E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4B0-4E20-4AA8-9BCF-04496EC7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B7F-926E-43DE-949D-698D3B5E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C48B-8541-4B96-95A6-AE87825C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32D5-7B30-4D37-B7A2-B33CFF85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E1AF-706E-4866-B056-80F05239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2C67-BEAE-4FB9-8757-9831E2C2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47AB-542C-44BC-A13C-DFE93FB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3051-AB12-4908-8BCA-E8233348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BEC6-0AF1-42A3-BCB9-5BFC078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9A6-656E-47A1-943A-63CE4D3C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44CB-27EF-4E98-90B7-FE6FA39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C744-629D-495E-ACBB-B0CB2BD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7C1B-4454-46A3-ACD0-76BD1E19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BBBE-9DDB-4DA2-A4DC-D1874C0B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E91-C3B0-486E-B088-469126A3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8F3F-17A7-4268-8396-C02DE8AD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AE81-9608-40EA-866E-D042A26D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5DE5-AB55-42A5-AE8F-FBC8708F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D3CA-6D47-4DD0-AC78-8FEFD16C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864B-063D-4E44-9240-03C05A65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1C2-0F93-4DBF-BAB8-A8AF3F2A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9FD4-1137-4241-8441-3C484493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F30E-1B79-463E-B21C-04F28CE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0D85-9760-4706-BBA8-397700A2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35F6-1F1A-42DC-ADE3-9486BF8D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03A8-D71F-4542-AF59-0C44A299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139F-38BA-4519-A7CC-85A3FDDB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EEB2-AC71-44EB-A54A-87C4B2BF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2A6D7-82A3-48B8-B4C0-F8A1D785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D2F8-F073-457E-A3CC-4F753A44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BFFC-90A8-4203-8083-AE959DD0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5E2-EE2B-49B6-948C-846BAA7A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F6FC-331F-46CA-8B93-DD710314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913F-962B-4A19-9E2E-9E35BE31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D5068-8C44-4984-BDE4-7BE97BED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896CA-4776-42CC-8300-16DE1A6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A286-979E-4931-B72A-DA281F2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4893F-17C2-4820-8FEC-BF28C375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44CC0-9582-482D-BAAD-90117BA1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6BDA8-6858-4AAF-B526-C8DE27FB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5B51-2B0D-4AD6-8CBA-A0B2244F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BC39-141A-4C2A-B960-6979D898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6BD-C09C-4BCE-895B-C4D7329C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41135-D5A0-4E82-86E4-4B37B418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E8DD-1628-40AE-833C-D2F98548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BA248-3FB2-437B-BD73-8F12F7EA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CB4C-5067-4B7D-83B2-CC71506D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1631-2F18-414C-B320-805749EC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65D54-4F28-4F7D-A95D-C7EBF91A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59A64-2F59-43C5-8BEF-F537556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70F81-2A69-41C5-8874-1F55413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37B9B-5E1C-4743-955A-8AB12810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2C0BA-FCB7-40F6-9515-470CA2E1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CD5-C673-44AE-8DF8-A1A81E58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EFF7-8C55-4F92-BA6D-F712017F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343F-1D31-4B27-ADAD-5ACD1972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4DEEC-8BE0-44D9-8B31-FA29D98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B07A8-7CB9-4DC8-9E40-7C2D51DB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763A1-E76B-4368-B0F1-3803C676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DDAA-3DBA-48CF-9F7C-0261415E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2A33E-94B8-40C9-8706-C6E51951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FE59-6E51-493A-8436-79BE49BB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002D4-AB26-485B-A81B-BA53158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681EA-D1AB-4D5C-B1B2-70FE4FD1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1E4-9487-4C68-A094-7C11B73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015B8-0A2D-4B59-9DF6-B0D23301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BBAF8-83DC-48F7-9863-BEF77736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67AD-C22B-4A11-AEBD-FDAEC9F7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BAEAF-1932-4B18-B9A0-923E9288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1CE89-A7A8-4635-B381-A4F8CDB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8D06A-A5A6-4AF4-9EA2-F63AFC91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697E0-7DEF-4D0D-BECA-74B47F09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70DA-FA6D-4F80-A532-FD3415A8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96F57-18D5-4F4C-9743-EE35D3DB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26D3-FCB5-4C0F-B735-A09E6932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6D4-018D-431F-8060-8820E13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EEEB8-5F69-488F-A8DB-6FAF6F5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CB3D2-8934-4B8A-8C70-7FB7E67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6CABB-C61C-4FBD-83C0-CE2FEDE4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A8487-C2D8-4054-89E3-D0D25E7C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6F060-89E7-4950-BD00-4477212A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58CEA-A736-4121-89E9-2DC10E90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7DFB1-38BA-4C88-B2A4-D3E44E79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A366-90CE-4240-ADD4-7A7417FE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BA13B-2D72-422A-88A7-1B3DD370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6BC76-2700-47E0-BCE4-10EC15D1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070-6185-4BE5-A6BF-D3168574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F5E1E-C32C-4A5C-8FAB-C700674C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3C32D-3B7A-483A-8698-1803D6DE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0E14C-F612-4926-93A9-84C17924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36BE-8ADA-439B-9A6A-D5FC499F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991C-5566-45D0-8B06-B54AB298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3817-C1DA-44EB-9639-38FB8F3E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2617-FFE6-4665-9DAD-534C9098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B0CC8-CDE4-4997-990C-AF285072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AC1B7-819D-4FD0-8FD5-90797311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D30CB-4FB3-466D-9BA2-BA8EB308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6585-9D9C-4BA7-8C99-4006AC838A0F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4569-7C33-4C90-9761-686216FB2FCB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B248-1DB2-4980-95FE-0E548159AB4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F654-B044-4626-B9A8-A73A857B346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562-E299-4AF5-977C-A1256FB7ED6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699-713C-4656-AEE7-4886C537FDE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CE2A-CDBE-4ADA-9C3C-3888A1245E5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5893-3FAC-42F9-8CBD-0DAC9E1CB84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9258-507B-4D0B-B8AF-9BE844502D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Carried on the X chromosom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Females can have disease, or be carrier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SHOW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se disorders since they only have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ON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copy of the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Males either have allele for disease (and have disease) or do no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0134-03B7-4BF8-ACDA-AB21D6F6D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28240" y="837720"/>
            <a:ext cx="83818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 u="sng">
                <a:solidFill>
                  <a:srgbClr val="000000"/>
                </a:solidFill>
                <a:uFillTx/>
                <a:latin typeface="Lucida Sans Unicode"/>
              </a:rPr>
              <a:t>Haemophilia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A disease in which the blood does not clot 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Severe complications can occur (uncontrolled internal/external bleeding)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Life span is approx. 10 years shorter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 u="sng">
                <a:solidFill>
                  <a:srgbClr val="000000"/>
                </a:solidFill>
                <a:uFillTx/>
                <a:latin typeface="Lucida Sans Unicode"/>
              </a:rPr>
              <a:t>Colour Blindnes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Different form – some can not see colour at all, others confuse colours (blue/yellow or red/green)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CD20-75E4-422D-86A1-6124E7464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36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0C81-2EF3-416E-9335-D87FB633539A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4462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761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Normal vision should see ‘57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Colour blindness sees ‘35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992D-12A7-481D-9412-8E944E61CF4D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305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68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Normal vision should see ‘8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A715-60F6-48D9-B0F7-DE00C6CE1D73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a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C641-6353-478C-82D1-AE25F7507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Woma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Ma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429000" y="1371600"/>
          <a:ext cx="5105520" cy="4916520"/>
        </p:xfrm>
        <a:graphic>
          <a:graphicData uri="http://schemas.openxmlformats.org/drawingml/2006/table">
            <a:tbl>
              <a:tblPr/>
              <a:tblGrid>
                <a:gridCol w="1117440"/>
                <a:gridCol w="1914840"/>
                <a:gridCol w="2073240"/>
              </a:tblGrid>
              <a:tr h="15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2" name="Slide Number Placeholder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1A7B-37E6-4362-9C25-3C3B11542B96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D558-4415-4B36-8B82-2A4C4CE66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½ Homozygous dominant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Heterozygous (carrier)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½ dominant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recessive (have disease)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½ Non –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Carri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½ Non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0AD-415E-4717-BA74-109343E5D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1faecd"/>
                </a:solidFill>
                <a:latin typeface="Times New Roman"/>
                <a:ea typeface="Times New Roman"/>
              </a:rPr>
              <a:t>is a type of flow chart that uses symbols to show the inheritance patterns of traits in a family over many generations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ractice hand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Questions p. 201 #1-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edigree assig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2057400" y="126360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62108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Text Box 4"/>
          <p:cNvSpPr/>
          <p:nvPr/>
        </p:nvSpPr>
        <p:spPr>
          <a:xfrm>
            <a:off x="774720" y="4581360"/>
            <a:ext cx="3313080" cy="94644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An unaffected child born of two affected parents indicates autosomal domina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heritanc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edigree shows the inheritance pattern for an autosomal dominant disorder. Notice that an affected child must have at least one affected parent to be affecte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825480" y="4460760"/>
            <a:ext cx="3457440" cy="94644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 autosomal recessive inheritance, if both parents are heterozygous for th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disorder, they will have an affected chil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641840" y="5200560"/>
            <a:ext cx="3816360" cy="179892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edigree shows the inheritance pattern for an autosomal recessive disorder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ice that the appearance of the recessive phenotype can skip generations, and that tw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unaffected parents can have an affected chil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9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, Male: 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inactivated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called a </a:t>
            </a:r>
            <a:r>
              <a:rPr b="1" lang="en-US" sz="3200" spc="-1" strike="noStrike">
                <a:solidFill>
                  <a:srgbClr val="1faecd"/>
                </a:solidFill>
                <a:latin typeface="Lucida Sans Unicode"/>
              </a:rPr>
              <a:t>Barr bod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9F29-5B91-4C13-8731-20C60B253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(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because the X chromosome is large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7925-6617-4209-9BF4-F43362821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BHN IMAGE</cp:lastModifiedBy>
  <dcterms:modified xsi:type="dcterms:W3CDTF">2012-10-01T12:16:09Z</dcterms:modified>
  <cp:revision>8</cp:revision>
  <dc:subject/>
  <dc:title>Pedigrees</dc:title>
</cp:coreProperties>
</file>