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10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4536-F212-4157-8FA5-A44AD77DEED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E277-1A51-4245-99B5-B7DBC34781BF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E2D2-EAF8-4FE8-849B-F213FF69D354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A156-2ED4-46D9-A668-9202CE45A5B7}" type="slidenum">
              <a:rPr b="0" lang="en-US" sz="1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C52-2303-4736-A000-17551150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9F9-B9B7-4139-AAE2-419042AD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C9B42-EC96-4753-9CE7-B605717F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0D245-4420-41DE-B46E-7773513F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FEB6E-397C-4924-885F-BDC98313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BBD73-C572-463A-BEB2-CBB04D18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F7DBB-7B34-4286-9DB6-AD8DB453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825D9-D98F-4DE8-BD51-25268E41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DCD3D-A014-4A21-934F-D749E43F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FACC9-2FC4-4C77-AE7F-DF65FB02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18466-A142-429E-99A9-C8F4664E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930-F73B-4ACF-A2F1-DA5FB563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751-606A-449C-BCDE-DF47536A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3C13-A2E6-4227-B243-7F53AA8F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AA95-C4FE-437D-AB2B-C559EB6C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5F44-9749-45A2-956E-5AD4D84B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6850-5353-4455-82B5-57D48F90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1A25-2EA7-49C0-94D1-7079B161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E39A-E06C-4411-81BA-9C8E8EEB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51D8-9197-4115-B93D-51A9D6AF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D7F-9F03-42B6-A264-FC82837E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79D9-1A5A-4DA7-91DF-D81CEF39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DFE5-CBD5-40AC-9364-E57971FB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3B7A-928C-4807-90B2-790B7C55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B2A7-2FD7-4F41-9D70-8EDE9F1D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8D68-5D9D-41F1-980B-8A68B1CA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AA29-9F65-43E9-BD03-64C35A52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2BA08-900F-48DC-BE91-3D48DE14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C2D3-E53B-48F9-B830-F8A70F7C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5667-B95D-481C-BCCE-FCE350E9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F158-A903-4EBC-BA56-35831AB1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0D5-4961-4353-B819-F9809D35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B4AC-20D3-4FC9-894F-58CC1CC5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A9DB4-16BF-4E7E-8E9C-437D5851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0563A-2217-4AAE-A15B-EEAE120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7E514-B216-4B5C-A80C-37768445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0E286-7328-4134-BB28-2316CB42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BD64-9FE5-4502-A6DC-73BB21CB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CA3D-6C1E-47CA-A31A-B88137DB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20BE-678A-4927-A3BC-801A6783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B8DED-B464-4E25-B9FE-28A340E8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AD10-8934-4173-9844-19F0760A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2F4-361E-44DD-B314-A70B8AB8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483A3-4795-48CB-9F5B-84A68293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9EAE8-6F37-41D6-B310-394E1D6F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C94F7-4215-464E-9E4D-15907B23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18FD7-0D7F-4D1B-9CA1-1DE5D4F5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A63F5-EC12-4011-9928-F43CBA7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0F343-4D20-479E-BBC2-45F129B3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8B721-7F5A-4152-8CC6-1B2EB2E5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90A35-D03A-41EF-ACAE-3E03A5C8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8E36-4658-48F6-B0A7-9826045A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7D5AA-F828-4E3B-B7DB-532B0ABA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259-C096-448E-AE94-ACA1AD16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BF1A5-AB7E-47A3-98D8-49E5A24F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A0345-D03E-4CDD-B398-D192A978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D3CE2-68BC-4767-8351-D0B903F3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2A2E6-4143-4028-842E-91B4FA23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9DD63-5B67-4CB0-A15D-9BF31C98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230BC-5109-4305-A9CA-1769DBAE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080F8-3F4D-4A45-944F-B78BD924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24289-9BF8-4C6A-8BAB-2E8C363B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84D94-8FA3-48DD-9AA3-5A99ED01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B7E30-7895-40AC-81C5-E4D78285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D8F-648C-4C73-B015-1C8C68B9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40378-7F73-4B61-B662-ECF50742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4C9DA-F9F9-4BEB-B0D7-A9B0EA71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058C4-9E0A-408C-94D3-C63336AD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AED97-31D7-4D57-944F-263E7FE2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FED2E-8AC4-4DCA-8DCC-F85D2B7C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68F3A-8FC1-4848-98F1-C5D4C935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F5BC9-037E-4ADF-9305-1077B8DC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6F120-8EAD-4558-B892-E7BCDD43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D5577-2E5A-4788-A621-218307BF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AA226-E60C-46E3-94EC-62EC7DF4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EFA-D2AF-4B6B-85A4-B722CF68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D2BAA-212A-436E-9787-78590EB8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6CEF6-1DF7-4E53-9C39-56CB582B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28F1-14D2-459B-B691-97DBAF55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65716-D574-4A66-97C0-119DC62E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89970-C209-4145-BDB9-13131A73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E30A9-D68E-4349-AD06-21D7A7BE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65432-D601-4FA5-84A3-05815EC8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C1643-2F03-425C-A5B6-0D9C90A8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893D3-754D-462F-9800-0ADDEFDE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DCBD6-5C82-4653-90C9-AF7A01E2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0CC-F8FF-414C-A34E-20683739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FEC90-4E4E-4FEA-BA76-9D1C6ABC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CCED2-E251-486F-9BDB-FBC56882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B83BF-3D9E-4D19-AFA4-9A3A9D9B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331F6-6694-4570-A7B4-40608FC1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3B5DA-8FB4-4D18-927F-0BB7BF82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5E00F-E877-477E-9A2C-60C40818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7F84C-1243-48EB-A2DF-3B5CF2B4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41C66-0268-4A70-943F-E73CED7E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55EE4-DA46-4B1E-9AB8-4477377B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0F202-56B3-4C77-AEBA-5FE06BB7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612-D08B-4BC4-B878-68D33E24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012E9-E902-4927-BD73-06C6BF35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336D2-3589-401F-82B1-0C1E2322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347F2-6144-49F6-8A43-694BFEAF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E6672-5E89-4655-8FFA-CEA77E66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920D4-8AF7-475B-8E2D-C73EA2C5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41A54-B890-45E7-9389-A2369B27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C3742-980C-4EE6-8F56-BC0D2D90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35857-3666-4BD9-8767-F4510363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B555F-692B-48E0-9D8B-4690150C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392B6-56BB-479F-B9FF-2C93CB98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FD13-CEFB-4029-A08D-0CA5D3761B1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CBD3-997B-46CB-9B60-76A479D2DCA0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CA1D-5AAC-4726-B5EC-DB554A1B0EC5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81A9-CA65-458E-BC29-4F024174AFC0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FFF2-9E98-4603-9151-82329D5B72E6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271E-5E82-460E-9D42-AFE230B3AB85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778C-E661-4FB3-B383-88E0009F9CE3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CFB9-EE6E-431E-A86A-D4097A7916B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EEC0-1849-4FB3-9E40-CAFD95F4C5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0520" y="1294920"/>
            <a:ext cx="815364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Carried on the X chromosom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Females can have disease, or be carrier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s are more likely to </a:t>
            </a: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SHOW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se disorders since they only have </a:t>
            </a: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ON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copy of the </a:t>
            </a: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chromosom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aecd"/>
                </a:solidFill>
                <a:latin typeface="Lucida Sans Unicode"/>
              </a:rPr>
              <a:t>Males either have allele for disease (and have disease) or do no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ADF3-F62B-469D-BA05-344ACACBC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146160" y="176040"/>
            <a:ext cx="7778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28240" y="837720"/>
            <a:ext cx="83818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 u="sng">
                <a:solidFill>
                  <a:srgbClr val="000000"/>
                </a:solidFill>
                <a:uFillTx/>
                <a:latin typeface="Lucida Sans Unicode"/>
              </a:rPr>
              <a:t>Haemophilia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A disease in which the blood does not clot 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Severe complications can occur (uncontrolled internal/external bleeding)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Life span is approx. 10 years shorter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 u="sng">
                <a:solidFill>
                  <a:srgbClr val="000000"/>
                </a:solidFill>
                <a:uFillTx/>
                <a:latin typeface="Lucida Sans Unicode"/>
              </a:rPr>
              <a:t>Colour Blindnes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Lucida Sans Unicode"/>
              </a:rPr>
              <a:t>Different form – some can not see colour at all, others confuse colours (blue/yellow or red/green)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D917-025E-4ACB-92A9-37BE37533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311040" y="0"/>
            <a:ext cx="8436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857B-BC7A-4F91-8D4F-E56A06769F6E}" type="slidenum">
              <a:rPr b="0" lang="en-US" sz="10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44625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57200" y="761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0000"/>
                </a:solidFill>
                <a:latin typeface="Lucida Sans Unicode"/>
              </a:rPr>
              <a:t>Normal vision should see ‘57’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0000"/>
                </a:solidFill>
                <a:latin typeface="Lucida Sans Unicode"/>
              </a:rPr>
              <a:t>Colour blindness sees ‘35’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Slide Numb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16B8-A612-47DD-98B5-10B9CBA11FB5}" type="slidenum">
              <a:rPr b="0" lang="en-US" sz="10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3052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685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0000"/>
                </a:solidFill>
                <a:latin typeface="Lucida Sans Unicode"/>
              </a:rPr>
              <a:t>Normal vision should see ‘8’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Slide Numb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257F-24CB-4E52-BF27-13C4482D68A7}" type="slidenum">
              <a:rPr b="0" lang="en-US" sz="10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228600" y="620280"/>
            <a:ext cx="86868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 woman who is a carrier o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emophilia and a man who doesn’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ave haemophilia want to hav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. What are the chances thei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ldren will have hemophilia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 – non hemophiliac, h 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o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,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an: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4E4B-81EE-46B2-BC32-91C4823BB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Woma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Ma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x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429000" y="1371600"/>
          <a:ext cx="5105520" cy="4916520"/>
        </p:xfrm>
        <a:graphic>
          <a:graphicData uri="http://schemas.openxmlformats.org/drawingml/2006/table">
            <a:tbl>
              <a:tblPr/>
              <a:tblGrid>
                <a:gridCol w="1117440"/>
                <a:gridCol w="1914840"/>
                <a:gridCol w="2073240"/>
              </a:tblGrid>
              <a:tr h="15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r>
                        <a:rPr b="1" lang="en-US" sz="50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r>
                        <a:rPr b="1" lang="en-US" sz="50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X</a:t>
                      </a:r>
                      <a:r>
                        <a:rPr b="1" lang="en-US" sz="50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2" name="Slide Number Placeholder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9A78-AA19-48FF-83D9-AE6C06C3BF4F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4EDF-50FA-453C-A94C-A13178152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Genotyp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½ Homozygous dominant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Heterozygous (carrier)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½ dominant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recessive (have disease) (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Lucida Sans Unicode"/>
              </a:rPr>
              <a:t>h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henotype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emale: ½ Non –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Carri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le:  ½ Non-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½ Hemophiliac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941B-1BDA-4C24-B465-D9CF3ABAB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re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1faecd"/>
                </a:solidFill>
                <a:latin typeface="Times New Roman"/>
                <a:ea typeface="Times New Roman"/>
              </a:rPr>
              <a:t>is a type of flow chart that uses symbols to show the inheritance patterns of traits in a family over many generations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uncover the genotype of a particular member of a family, and they can be used to predict phenotypes and genotypes of future offspring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For each of the following pedigrees indicate whether the transmission of the trait is autosomal recessive, autosomal dominant or sex-link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Picture 3" descr="C:\Users\Brian\Pictures\img003.jpg"/>
          <p:cNvPicPr/>
          <p:nvPr/>
        </p:nvPicPr>
        <p:blipFill>
          <a:blip r:embed="rId1"/>
          <a:stretch/>
        </p:blipFill>
        <p:spPr>
          <a:xfrm>
            <a:off x="971640" y="2852640"/>
            <a:ext cx="684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ractice hando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Questions p. 201 #1-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edigree assig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712000" cy="16146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Picture 2" descr="D:\Pictures\Bio11\Ch5\FigU2-18_p219.jpg"/>
          <p:cNvPicPr/>
          <p:nvPr/>
        </p:nvPicPr>
        <p:blipFill>
          <a:blip r:embed="rId2"/>
          <a:stretch/>
        </p:blipFill>
        <p:spPr>
          <a:xfrm>
            <a:off x="2057400" y="1263600"/>
            <a:ext cx="5929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35920" cy="162108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Picture 2" descr="D:\Pictures\Bio11\Ch5\table5.png"/>
          <p:cNvPicPr/>
          <p:nvPr/>
        </p:nvPicPr>
        <p:blipFill>
          <a:blip r:embed="rId2"/>
          <a:stretch/>
        </p:blipFill>
        <p:spPr>
          <a:xfrm>
            <a:off x="306360" y="1268280"/>
            <a:ext cx="8705880" cy="1162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D:\Pictures\Bio11\Ch5\FigU2-19_p221.jpg"/>
          <p:cNvPicPr/>
          <p:nvPr/>
        </p:nvPicPr>
        <p:blipFill>
          <a:blip r:embed="rId3"/>
          <a:stretch/>
        </p:blipFill>
        <p:spPr>
          <a:xfrm>
            <a:off x="299880" y="2565360"/>
            <a:ext cx="426276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Picture 4" descr="D:\Pictures\Bio11\Ch5\FigU2-20_p221.jpg"/>
          <p:cNvPicPr/>
          <p:nvPr/>
        </p:nvPicPr>
        <p:blipFill>
          <a:blip r:embed="rId4"/>
          <a:stretch/>
        </p:blipFill>
        <p:spPr>
          <a:xfrm>
            <a:off x="4691160" y="2560680"/>
            <a:ext cx="3790800" cy="167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Text Box 4"/>
          <p:cNvSpPr/>
          <p:nvPr/>
        </p:nvSpPr>
        <p:spPr>
          <a:xfrm>
            <a:off x="774720" y="4581360"/>
            <a:ext cx="3313080" cy="94644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An unaffected child born of two affected parents indicates autosomal domina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heritance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4888080" y="4473720"/>
            <a:ext cx="3816360" cy="115956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edigree shows the inheritance pattern for an autosomal dominant disorder. Notice that an affected child must have at least one affected parent to be affected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213360" y="565164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Recall: Autosomal disorders are found on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 Unicode"/>
              </a:rPr>
              <a:t>chromosomes 1-22, not on X or Y chromosom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485200" cy="127476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9"/>
          <p:cNvSpPr/>
          <p:nvPr/>
        </p:nvSpPr>
        <p:spPr>
          <a:xfrm>
            <a:off x="123840" y="-5724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UNIT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1371600" y="-47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hapter 5: Patterns of Inheri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7620120" y="-4428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tion 5.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825480" y="4460760"/>
            <a:ext cx="3457440" cy="94644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 autosomal recessive inheritance, if both parents are heterozygous for th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disorder, they will have an affected child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641840" y="5200560"/>
            <a:ext cx="3816360" cy="1798920"/>
          </a:xfrm>
          <a:prstGeom prst="rect">
            <a:avLst/>
          </a:prstGeom>
          <a:solidFill>
            <a:srgbClr val="80ff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edigree shows the inheritance pattern for an autosomal recessive disorder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otice that the appearance of the recessive phenotype can skip generations, and that tw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unaffected parents can have an affected child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Picture 2" descr="D:\Pictures\Bio11\Ch5\table5b.png"/>
          <p:cNvPicPr/>
          <p:nvPr/>
        </p:nvPicPr>
        <p:blipFill>
          <a:blip r:embed="rId2"/>
          <a:stretch/>
        </p:blipFill>
        <p:spPr>
          <a:xfrm>
            <a:off x="401760" y="1197000"/>
            <a:ext cx="8480160" cy="1162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D:\Pictures\Bio11\Ch5\FigU2-21_p222.jpg"/>
          <p:cNvPicPr/>
          <p:nvPr/>
        </p:nvPicPr>
        <p:blipFill>
          <a:blip r:embed="rId3"/>
          <a:stretch/>
        </p:blipFill>
        <p:spPr>
          <a:xfrm>
            <a:off x="585720" y="2467080"/>
            <a:ext cx="3853080" cy="15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9" name="Picture 4" descr="D:\Pictures\Bio11\Ch5\FigU2-22_p222.jpg"/>
          <p:cNvPicPr/>
          <p:nvPr/>
        </p:nvPicPr>
        <p:blipFill>
          <a:blip r:embed="rId4"/>
          <a:stretch/>
        </p:blipFill>
        <p:spPr>
          <a:xfrm>
            <a:off x="4879800" y="2687760"/>
            <a:ext cx="3340440" cy="24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Ex. The pedigree below shows three generations of a family with one individual (#7) has cystic fibrosis.  Indicate all possible genotypes for all the individu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Picture 3" descr="C:\Users\Brian\Pictures\img003 - Copy.jpg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253800" y="981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individual’s sex is determin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y X and Y chrom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emale: </a:t>
            </a:r>
            <a:r>
              <a:rPr b="0" lang="en-US" sz="3200" spc="-1" strike="noStrike">
                <a:solidFill>
                  <a:srgbClr val="1faecd"/>
                </a:solidFill>
                <a:latin typeface="Lucida Sans Unicode"/>
              </a:rPr>
              <a:t>XX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, Male: </a:t>
            </a:r>
            <a:r>
              <a:rPr b="0" lang="en-US" sz="3200" spc="-1" strike="noStrike">
                <a:solidFill>
                  <a:srgbClr val="1faecd"/>
                </a:solidFill>
                <a:latin typeface="Lucida Sans Unicode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 females, only one X chromosome is active – one of the X chromosomes is inactivated (at rando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inactivated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0" indent="-3747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called a </a:t>
            </a:r>
            <a:r>
              <a:rPr b="1" lang="en-US" sz="3200" spc="-1" strike="noStrike">
                <a:solidFill>
                  <a:srgbClr val="1faecd"/>
                </a:solidFill>
                <a:latin typeface="Lucida Sans Unicode"/>
              </a:rPr>
              <a:t>Barr bod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5CA1-0371-4342-A95B-33EDF2E22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298440" y="0"/>
            <a:ext cx="8083440" cy="1359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2"/>
          <a:stretch/>
        </p:blipFill>
        <p:spPr>
          <a:xfrm>
            <a:off x="7308720" y="4888080"/>
            <a:ext cx="17226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-linked genes are located on the X chromosom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st sex linked traits are carried only on the X chromosome and not on the Y chromosome (</a:t>
            </a:r>
            <a:r>
              <a:rPr b="0" lang="en-US" sz="3200" spc="-1" strike="noStrike">
                <a:solidFill>
                  <a:srgbClr val="1faecd"/>
                </a:solidFill>
                <a:latin typeface="Lucida Sans Unicode"/>
              </a:rPr>
              <a:t>because the X chromosome is large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 chickens, skin colour is determined by a sex-linked trait. The dominant skin colour is black and the recessive skin colour is green. Show a cross between a heterozygous female and a green male. State the phenotypes and genotypes of the offsp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E6EE-065F-477F-975F-3F6733FB1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7:47:46Z</dcterms:created>
  <dc:creator>Brian</dc:creator>
  <dc:description/>
  <dc:language>en-US</dc:language>
  <cp:lastModifiedBy>BHN IMAGE</cp:lastModifiedBy>
  <dcterms:modified xsi:type="dcterms:W3CDTF">2012-10-01T12:16:09Z</dcterms:modified>
  <cp:revision>8</cp:revision>
  <dc:subject/>
  <dc:title>Pedigrees</dc:title>
</cp:coreProperties>
</file>