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10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493A-7BB5-4064-8653-2F915BE5E58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E5D3-5309-4831-BDD6-AA5F9F47CAC0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BC07-BFD4-4174-B7AF-0328BB4E57DC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803E-B63A-45FE-B5FA-C4BF931A2914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E5A-D3ED-4A20-94C3-D10B2ACC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8AF-5CC3-49AA-8D07-F8AEE9E5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8606D-DDA9-4B04-A5E5-CDBEB998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F66E6-E638-42D4-9453-9ACB85C8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D60DF-0B23-4A15-994C-D8569BBC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A948F-E78F-432D-9ECB-A08F29DE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A9FF8-1FA0-41E1-BD6E-77F48892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60119-E3F3-4188-9B65-F005C724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FF081-793A-43F8-B6F1-2F0E6EC1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E5E79-A39D-4236-B5FD-522CD7BE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E331B-958B-49F1-98CC-81F8F5F6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967-3A93-427D-AACA-9F3F403B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6A7-3A06-4356-98EE-0B08C1C4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94A9-C04D-4692-BEA4-78919F26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354E-1065-4C44-BA3D-873DD49F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66F9-8DC2-43DD-A2A1-C73A0ADF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B7D1-56F3-46AE-B414-B9E4F0AF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A33F-F838-4C7F-AC23-A44D465C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404A-9857-42BE-8F2E-B3344CF3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114F-6DF8-496D-A89A-64C8768D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89C-8BAF-4B72-BDD9-B4819A61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FB34-9FB9-468D-99E6-AF21F1D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BFCC-D34A-4F4F-8DCD-507472E4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501A-7BCB-4902-B30A-73250CD1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0AE8-BD1B-4C02-8AA9-3C7BA6D2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6017-A199-4F58-BE9C-59F95740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B892-B2F2-4854-B1BF-B5D89A8B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A32CD-1F16-4D5A-B0DC-61E3C3C4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4E418-6EE9-4000-9ABF-47E3EB41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AAEB-ED15-4B26-BDB5-88EFDF1F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D13F-9620-4CC5-B976-783EAF21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4AC-8CA3-44E1-A668-012FFE00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8F56-25D4-4F60-B33A-652113AF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5896-78D4-44A2-94DA-DC99F9AF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160B-D9CA-4E08-BE73-5F24BF69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AA562-636F-4B97-A251-066743F8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F543-9BB3-4B9A-A788-FF60A974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0ADA-975B-488D-84D8-F4CC2EAB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1669-1E82-4566-BAF4-ECBC08A6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A616C-F427-4E6E-A98B-C42E7425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CFA61-D935-47A8-9788-78679B00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E48FA-B1CB-4442-A15A-710A918D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A16-9A2D-4241-80E7-9F144290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F2233-1B71-4C85-BF7B-BE71A5ED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6975D-FF52-4D98-8882-90103854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3FABA-1B6A-4F67-91FA-30CBB1E7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5BF0-7A00-4C50-AA9F-629EAA04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39DB-1A11-43F8-90C6-4AC88F5C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54E5-EE46-4C8B-816D-7CF1F9C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CF259-1A27-4B20-87FB-FFF49C95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D6B1A-A749-45F5-B8B6-0456A6DE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1062-0A77-4441-A0EE-FF3A61C3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18C0B-88E2-450A-BD07-F246077C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A6C-D12C-4979-B873-DBA50771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694F6-53B0-405D-A1E0-B1CA122F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3B34A-BC1F-4DBA-9B53-C339985F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1AE9D-573C-46F4-AB67-11E70677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C285F-7C5D-4A65-8545-711AE4CF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A85B5-1315-4AF4-B709-163B942B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03DAA-AAE0-4792-A9C9-BD4981F9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964A0-03F9-4428-B4AD-5338F940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3B9DB-C1DB-406D-8781-933D31DB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4C300-2B3B-43D8-B319-8A8CC715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64653-A896-42AF-82EE-4E107307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035-5FA4-4E21-AC30-A04ACBA8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8DB74-918F-4FE4-B275-133E3784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0F187-1D73-4BC8-9A6E-77E4089D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823B3-6A39-4BF3-B67D-3EA72E88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F91CC-9A51-4020-B068-43A01695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FB58C-678C-4E9F-9AC2-33C2BC59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A9D69-8C66-4EE5-90AA-D2DD9D01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493A2-FF84-4DC8-A382-BDB40554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B9B26-DFC2-4F47-8D18-5E74B552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68485-C031-4808-95E6-39F911EF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2054B-9F75-4BB2-87DA-0D90DDDB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C59-EDC5-4012-8DED-B3CB3DB2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F40F-1E43-4027-8EEB-9A9215A1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349BC-3E1E-4A01-A6AB-F51B1804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84903-1691-4B0A-B7DA-A276E88D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AFA43-563B-4C65-B142-2A89E628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183DE-9D29-4BB0-A663-D74B8BAF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4CD72-1F2F-486D-971A-0B9D43E2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D61B7-3D92-4C21-959C-F6A2C5DE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D2C29-9B65-485A-A225-D908E2FE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5F2F6-CDC8-4FC5-961B-3C81DFCD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0EF37-63D2-4653-AE51-7E64758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9E6-3A80-49AB-BBE9-8DA9ABFB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BD5E3-4830-4F98-B2D0-555C103E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ACCB9-789D-45BE-B627-E459AE5A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FB91A-2EEC-4570-8D42-B890153F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18FA2-4A44-40BF-8B9A-CCA99DCA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8040D-C8D9-4113-9A20-56F46793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2C45E-466F-497E-8E3C-F0F81A48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39DB6-53C9-4791-9539-57C3E766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D3D0B-8872-4D5E-9F0A-D54738BC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C3C00-1FD9-4F7F-8B45-FBC8E5A8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C6FDC-3B4F-4DED-8B5B-C9573DD0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E3E-C222-442E-A03B-6EC1B89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63A62-5E0E-44AF-B5D4-112BE113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0A7BD-B50B-4031-86E1-084CA171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72940-B33E-4EBA-B64D-F7286071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D2B86-E57A-4838-9E6E-7762A0FB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D3BA3-45EF-4E3F-AEC2-D53F6724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B7738-D5E8-4911-92CA-0A541AE1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E45F9-C2CC-4E07-8047-D9B3F510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05E4A-2039-4DEF-9782-880560D5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AB272-BD81-4B38-AE6C-0178210A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96950-A623-48D2-8E47-5A0DD615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7842-5982-4991-9EE8-88398792D4A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E4AC-0CC5-4A25-9D01-4864494C966B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FE46-04CF-4A66-A8CA-A52B6D22D50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E485-C216-4B0F-8F70-F2FAFD10EA7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8046-0FEE-4176-9BD1-AEE5CBAB44F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E1C4-1460-4F04-8922-D071B702AC8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50AD-A6A2-49F9-8A31-A22F179DF04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E38C-9195-4BB7-8422-98C239E1B32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E94E-5C57-4E1C-A585-AF953D4428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0520" y="1294920"/>
            <a:ext cx="81536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Carried on the X chromosom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Females can have disease, or be carrier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s are more likely to </a:t>
            </a: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SHOW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se disorders since they only have </a:t>
            </a: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ON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copy of the </a:t>
            </a: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chromosom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Males either have allele for disease (and have disease) or do no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7023-81A7-4F85-9189-005C29A03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7778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28240" y="837720"/>
            <a:ext cx="83818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 u="sng">
                <a:solidFill>
                  <a:srgbClr val="000000"/>
                </a:solidFill>
                <a:uFillTx/>
                <a:latin typeface="Lucida Sans Unicode"/>
              </a:rPr>
              <a:t>Haemophilia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A disease in which the blood does not clot 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Severe complications can occur (uncontrolled internal/external bleeding)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Life span is approx. 10 years shorter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 u="sng">
                <a:solidFill>
                  <a:srgbClr val="000000"/>
                </a:solidFill>
                <a:uFillTx/>
                <a:latin typeface="Lucida Sans Unicode"/>
              </a:rPr>
              <a:t>Colour Blindnes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Different form – some can not see colour at all, others confuse colours (blue/yellow or red/green)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E414-A692-40EE-B86C-AFE39828F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311040" y="0"/>
            <a:ext cx="8436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E2B9-CE5A-435B-99DF-28B19DF388CF}" type="slidenum">
              <a:rPr b="0" lang="en-US" sz="10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44625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761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0000"/>
                </a:solidFill>
                <a:latin typeface="Lucida Sans Unicode"/>
              </a:rPr>
              <a:t>Normal vision should see ‘57’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0000"/>
                </a:solidFill>
                <a:latin typeface="Lucida Sans Unicode"/>
              </a:rPr>
              <a:t>Colour blindness sees ‘35’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Slide Numb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D2A6-B019-40E1-BE84-BD089ABBB6B6}" type="slidenum">
              <a:rPr b="0" lang="en-US" sz="10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3052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685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0000"/>
                </a:solidFill>
                <a:latin typeface="Lucida Sans Unicode"/>
              </a:rPr>
              <a:t>Normal vision should see ‘8’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Slide Numb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AAEE-CB72-46CB-A865-97441545402B}" type="slidenum">
              <a:rPr b="0" lang="en-US" sz="10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228600" y="620280"/>
            <a:ext cx="86868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 woman who is a carrier o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emophilia and a man who doesn’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ve haemophilia want to hav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. What are the chances thei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 will have hemophilia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 – non hemophiliac, h 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o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,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485A-D704-4E95-8FF3-ACA885F06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Woma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Ma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429000" y="1371600"/>
          <a:ext cx="5105520" cy="4916520"/>
        </p:xfrm>
        <a:graphic>
          <a:graphicData uri="http://schemas.openxmlformats.org/drawingml/2006/table">
            <a:tbl>
              <a:tblPr/>
              <a:tblGrid>
                <a:gridCol w="1117440"/>
                <a:gridCol w="1914840"/>
                <a:gridCol w="2073240"/>
              </a:tblGrid>
              <a:tr h="15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r>
                        <a:rPr b="1" lang="en-US" sz="50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r>
                        <a:rPr b="1" lang="en-US" sz="50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r>
                        <a:rPr b="1" lang="en-US" sz="50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2" name="Slide Number Placeholder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70B1-B8A7-49D2-9872-2F619D1F6EF8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2ADF-7C3D-409D-9B00-D4E11216D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½ Homozygous dominant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Heterozygous (carrier)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½ dominant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recessive (have disease)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½ Non –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Carri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½ Non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8B02-096B-4E49-8E84-240A7A634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re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1faecd"/>
                </a:solidFill>
                <a:latin typeface="Times New Roman"/>
                <a:ea typeface="Times New Roman"/>
              </a:rPr>
              <a:t>is a type of flow chart that uses symbols to show the inheritance patterns of traits in a family over many generations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uncover the genotype of a particular member of a family, and they can be used to predict phenotypes and genotypes of future offspring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For each of the following pedigrees indicate whether the transmission of the trait is autosomal recessive, autosomal dominant or sex-link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Picture 3" descr="C:\Users\Brian\Pictures\img003.jpg"/>
          <p:cNvPicPr/>
          <p:nvPr/>
        </p:nvPicPr>
        <p:blipFill>
          <a:blip r:embed="rId1"/>
          <a:stretch/>
        </p:blipFill>
        <p:spPr>
          <a:xfrm>
            <a:off x="971640" y="2852640"/>
            <a:ext cx="684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ractice hand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Questions p. 201 #1-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edigree assig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712000" cy="16146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Picture 2" descr="D:\Pictures\Bio11\Ch5\FigU2-18_p219.jpg"/>
          <p:cNvPicPr/>
          <p:nvPr/>
        </p:nvPicPr>
        <p:blipFill>
          <a:blip r:embed="rId2"/>
          <a:stretch/>
        </p:blipFill>
        <p:spPr>
          <a:xfrm>
            <a:off x="2057400" y="1263600"/>
            <a:ext cx="5929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35920" cy="162108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Picture 2" descr="D:\Pictures\Bio11\Ch5\table5.png"/>
          <p:cNvPicPr/>
          <p:nvPr/>
        </p:nvPicPr>
        <p:blipFill>
          <a:blip r:embed="rId2"/>
          <a:stretch/>
        </p:blipFill>
        <p:spPr>
          <a:xfrm>
            <a:off x="306360" y="1268280"/>
            <a:ext cx="8705880" cy="1162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D:\Pictures\Bio11\Ch5\FigU2-19_p221.jpg"/>
          <p:cNvPicPr/>
          <p:nvPr/>
        </p:nvPicPr>
        <p:blipFill>
          <a:blip r:embed="rId3"/>
          <a:stretch/>
        </p:blipFill>
        <p:spPr>
          <a:xfrm>
            <a:off x="299880" y="2565360"/>
            <a:ext cx="426276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Picture 4" descr="D:\Pictures\Bio11\Ch5\FigU2-20_p221.jpg"/>
          <p:cNvPicPr/>
          <p:nvPr/>
        </p:nvPicPr>
        <p:blipFill>
          <a:blip r:embed="rId4"/>
          <a:stretch/>
        </p:blipFill>
        <p:spPr>
          <a:xfrm>
            <a:off x="4691160" y="2560680"/>
            <a:ext cx="379080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Text Box 4"/>
          <p:cNvSpPr/>
          <p:nvPr/>
        </p:nvSpPr>
        <p:spPr>
          <a:xfrm>
            <a:off x="774720" y="4581360"/>
            <a:ext cx="3313080" cy="94644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An unaffected child born of two affected parents indicates autosomal domina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heritance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4888080" y="4473720"/>
            <a:ext cx="381636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edigree shows the inheritance pattern for an autosomal dominant disorder. Notice that an affected child must have at least one affected parent to be affected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213360" y="565164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Recall: Autosomal disorders are found 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chromosomes 1-22, not on X or Y chromosom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485200" cy="127476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825480" y="4460760"/>
            <a:ext cx="3457440" cy="94644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 autosomal recessive inheritance, if both parents are heterozygous for th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disorder, they will have an affected child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641840" y="5200560"/>
            <a:ext cx="3816360" cy="179892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edigree shows the inheritance pattern for an autosomal recessive disorder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otice that the appearance of the recessive phenotype can skip generations, and that tw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unaffected parents can have an affected child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Picture 2" descr="D:\Pictures\Bio11\Ch5\table5b.png"/>
          <p:cNvPicPr/>
          <p:nvPr/>
        </p:nvPicPr>
        <p:blipFill>
          <a:blip r:embed="rId2"/>
          <a:stretch/>
        </p:blipFill>
        <p:spPr>
          <a:xfrm>
            <a:off x="401760" y="1197000"/>
            <a:ext cx="8480160" cy="1162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D:\Pictures\Bio11\Ch5\FigU2-21_p222.jpg"/>
          <p:cNvPicPr/>
          <p:nvPr/>
        </p:nvPicPr>
        <p:blipFill>
          <a:blip r:embed="rId3"/>
          <a:stretch/>
        </p:blipFill>
        <p:spPr>
          <a:xfrm>
            <a:off x="585720" y="2467080"/>
            <a:ext cx="3853080" cy="15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9" name="Picture 4" descr="D:\Pictures\Bio11\Ch5\FigU2-22_p222.jpg"/>
          <p:cNvPicPr/>
          <p:nvPr/>
        </p:nvPicPr>
        <p:blipFill>
          <a:blip r:embed="rId4"/>
          <a:stretch/>
        </p:blipFill>
        <p:spPr>
          <a:xfrm>
            <a:off x="4879800" y="2687760"/>
            <a:ext cx="334044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The pedigree below shows three generations of a family with one individual (#7) has cystic fibrosis.  Indicate all possible genotypes for all the individu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Picture 3" descr="C:\Users\Brian\Pictures\img003 - Copy.jpg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253800" y="981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individual’s sex is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y X and Y chrom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r>
              <a:rPr b="0" lang="en-US" sz="3200" spc="-1" strike="noStrike">
                <a:solidFill>
                  <a:srgbClr val="1faecd"/>
                </a:solidFill>
                <a:latin typeface="Lucida Sans Unicode"/>
              </a:rPr>
              <a:t>XX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, Male: </a:t>
            </a:r>
            <a:r>
              <a:rPr b="0" lang="en-US" sz="3200" spc="-1" strike="noStrike">
                <a:solidFill>
                  <a:srgbClr val="1faecd"/>
                </a:solidFill>
                <a:latin typeface="Lucida Sans Unicode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females, only one X chromosome is active – one of the X chromosomes is inactivated (at rand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inactivated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called a </a:t>
            </a:r>
            <a:r>
              <a:rPr b="1" lang="en-US" sz="3200" spc="-1" strike="noStrike">
                <a:solidFill>
                  <a:srgbClr val="1faecd"/>
                </a:solidFill>
                <a:latin typeface="Lucida Sans Unicode"/>
              </a:rPr>
              <a:t>Barr bod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CAE1-C285-41FF-A8BC-4269FDA3F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298440" y="0"/>
            <a:ext cx="8083440" cy="1359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2"/>
          <a:stretch/>
        </p:blipFill>
        <p:spPr>
          <a:xfrm>
            <a:off x="7308720" y="4888080"/>
            <a:ext cx="1722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-linked genes are located on the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st sex linked traits are carried only on the X chromosome and not on the Y chromosome (</a:t>
            </a:r>
            <a:r>
              <a:rPr b="0" lang="en-US" sz="3200" spc="-1" strike="noStrike">
                <a:solidFill>
                  <a:srgbClr val="1faecd"/>
                </a:solidFill>
                <a:latin typeface="Lucida Sans Unicode"/>
              </a:rPr>
              <a:t>because the X chromosome is large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 chickens, skin colour is determined by a sex-linked trait. The dominant skin colour is black and the recessive skin colour is green. Show a cross between a heterozygous female and a green male. State the phenotypes and genotypes of the offsp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9D6B-E1F6-4275-A64E-D5899100F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7:47:46Z</dcterms:created>
  <dc:creator>Brian</dc:creator>
  <dc:description/>
  <dc:language>en-US</dc:language>
  <cp:lastModifiedBy>BHN IMAGE</cp:lastModifiedBy>
  <dcterms:modified xsi:type="dcterms:W3CDTF">2012-10-01T12:16:09Z</dcterms:modified>
  <cp:revision>8</cp:revision>
  <dc:subject/>
  <dc:title>Pedigrees</dc:title>
</cp:coreProperties>
</file>