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6CE0-26F0-418C-9994-F590A1A5C8D0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441-5E68-402E-8C7F-DF41BE946AF9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736-5E37-439F-9D7A-53A1B6DB27A5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62E-B771-4F20-AB6B-9B4D84D27662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659-369D-49F3-BCD6-D166DDE2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97A-0F01-49BD-A160-A09A2EFF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CB248-02A2-44F6-AE58-487BB980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2A4B1-B728-4890-BF79-14764BDE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23253-D646-4FD6-8E2F-4BCAA00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46508-4E05-4E51-8DA1-AAAD3F5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F4929-B3B4-42EE-B92B-90FAFE8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10972-4BD8-4867-BB8C-6DFCE1F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C991A-EF98-4FAB-A6F6-5D12A15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58109-A39F-4114-92D5-5D5DE914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E5686-E91A-49E7-AEDB-FA30ECB1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16E-4C72-49A5-9FF1-586A7FF2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049-BA89-4B69-AF7F-8AE7CC36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8885-A025-41C1-87EB-6402095F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2237-CE74-45C8-9433-CF958E8D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054E-F215-4F51-A42A-74FAA38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D296-B93B-4135-ACFF-F80159E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E041-827D-4694-A9C2-D7D15FAC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0359-ECF8-4D11-9F2A-9798D4F3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791-6D4D-4F5B-9234-11C30CB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07F-1690-4BB0-BFB4-8B1F7886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3BD2-24D1-4073-86D1-3C9BF3AC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7E12-0309-4576-9ACF-D90F5128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183D-A3B6-4640-93CB-BDE7738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7D57-77E9-4563-B933-53A2AD55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DF9A-D7F4-4822-BF90-57BB5D70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6893-8706-461B-A13F-05D447E8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E4F9-4504-46F1-9E7E-7B70E09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C748-6F92-4F9A-BCE3-F327718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6203-1F92-49FE-92E3-1316880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131D-2377-4476-8E74-891081FE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3AA-ED1A-4478-A9D7-62915247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660B-5EDD-4F0F-A033-FB06ECA0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22E8-21F2-4B22-8CB9-B2FECA0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3D3D-C331-4759-BF5F-0EC4623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441E-1A60-41E8-9016-CC0DD33D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CDC7-EABF-4389-81BD-057A0836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C94F-32E8-46FB-81D7-4B720B41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7257-40F2-4AB1-A96B-102BAE01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9D71-DEC0-4AEC-AE4C-33FAE679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CA75-8DEE-453A-9E4D-1000151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3314-B88E-414D-83C4-3B47BE5A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AB5-3559-4C65-BF23-50CE2C2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403A-2648-4AAF-BF6C-3D784A89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2931-4446-409A-96DA-97360B6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55A8-0B25-480B-8D21-24957826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11F8-4ECB-4928-BDD0-81D3BCC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5428-FFD4-4760-B3FE-FF29A7F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4A13-EE62-4962-9235-B69C9A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3641-3395-4EA5-BCF2-1880515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773D-9E78-4E55-B50F-EAC94E68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3BED-D211-4DE3-B09E-3CC3D342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04614-AE16-44F0-8903-F38755D3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0CC-CBF5-472B-9F13-B3D0E7A3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1FB40-A413-4D43-805E-30F8EF3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DB1C-9A1F-4E21-BAFE-C8850474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19A6-ED9F-4107-8E2F-021A73A4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E840-89E9-4260-8267-58AB77B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0B68-82F2-4E62-AE86-D2CFA2D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4ACF1-9A30-4C98-B296-BAFD772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9138-F62D-4E34-A4D4-6D45285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9228-1BD8-4BCE-948A-01446BDA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C788-A062-4BB6-ACBF-9CC4E18C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F67D-D932-43ED-BA5C-20F70718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F7C-FE98-46E4-A9DA-C2FA062A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CCEA0-7989-4E3E-9803-E29FB744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540E-72B4-424D-AA60-BDBFDB43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6944-9883-4E23-80F5-CF2103A1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AFD6A-816F-4731-9FB6-76AF343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7256-A87B-4D80-AE85-E1C51D0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F1C27-DB50-4BD0-94D0-331992F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E129D-CF28-470F-8D97-F8928CD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1211-C2AA-4D4A-B822-26BF06D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EB5C-8C36-4D09-9BD3-CD3FDC7C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BFBA-04D5-4849-9550-A903FAD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3C1-AA28-440D-8E36-3D82114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E724-4879-410F-89E4-DEAC468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7774-3504-4DA0-BB80-537A1C37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F9C4-BE6C-47DC-8C0E-68B11FA4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DC9EA-7B01-4F9F-B515-3FDBC1D9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870EC-B6BD-4A4F-9AE4-C0BC33F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4F79E-05D1-4B2B-A339-F9400F5B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55B6-8478-4535-BBEF-A21C8C5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21546-3593-4574-8FE0-C28582C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2FB08-AA38-4B93-8717-C034DB96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4347-6B98-4FC1-8BED-CB2D2BE3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B7F-4080-4B5F-954E-F7BF1A37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B9435-127E-4144-9167-A7F73E0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7C94-4FD2-4F27-820B-1682966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68B43-1ED9-428B-8A9A-EAD64AB2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8EAFC-F4F3-4DA0-9937-9EF7B176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87CF-DF0E-4BF4-8129-D88EA35A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7B32-2D8C-4DE5-B999-70EABAB0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6820-D768-4C6E-8613-04CABC5A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98F01-15DB-42B5-A8A5-8AF1D99A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71E2-E6E1-421F-951C-8FCFF508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E2097-EE7E-4B23-8F90-C3766A96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5DA-6A20-4156-B3C9-5906FB7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13C17-832B-4AA3-BF53-C367635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5AB0-A1CC-4410-807D-81C0030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A8EF1-FB6B-414E-A203-1676680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23096-0293-443C-A715-25AAD25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F502-6900-4A62-8336-6EE0D35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5F99-F0BF-4256-8CA1-8DF0BF67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8607-8861-4B56-8AE5-82F09AC0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201B-EFEB-4430-81B1-39F5139E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1F3C0-DCF9-4888-B4D0-40D4F35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8D074-8979-4D89-80A1-5DCFA053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C43C-F765-4253-BF60-B5F6C6DE03AD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4340-EDDD-43F1-998C-C3EA57D2EC8E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729A-01E6-45D5-BF34-8BDC002727E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F8E9-1510-42A8-AB99-5F6F2EE42C2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11BD-4598-4A67-AB71-1B07C25FBC4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713-709C-4A5B-A17A-7E0D19466FD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B08-6DC0-4267-8833-EE6DAD6BD6F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407-C82F-4596-BBAE-283D897F72E6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40F9-E8B3-4369-BB5D-E3C0EE272A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diagram of an individual’s ancestors used in human genetics to analyze the Mendelian inheritance of a certain trait; also used for selective breeding of plants and animal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B7C-8DD7-44D6-A299-9F400A39570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979-68D5-4CEC-8105-EC89308F04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1530360" y="155736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054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C06-99A6-4ABA-9E4D-53C5112863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785-CC64-4E4C-A697-C64EF4F573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96D-39F6-4374-91A5-444A36C1F8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Tien, Jean (EDU)</cp:lastModifiedBy>
  <cp:lastPrinted>2012-10-01T12:15:57Z</cp:lastPrinted>
  <dcterms:modified xsi:type="dcterms:W3CDTF">2017-10-04T13:44:40Z</dcterms:modified>
  <cp:revision>11</cp:revision>
  <dc:subject/>
  <dc:title>Pedigrees</dc:title>
</cp:coreProperties>
</file>