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C3B7-90DB-4CFE-B72A-9C1D0FE60D0B}" type="slidenum">
              <a:rPr b="0" lang="en-CA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89B1-00BD-4FA0-8674-99DBA1A6A9B1}" type="slidenum">
              <a:rPr b="0" lang="en-US" sz="1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4B9E-6E77-42B4-86D6-05B668F16873}" type="slidenum">
              <a:rPr b="0" lang="en-US" sz="1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DDB0-C93E-4299-9326-4DF19AE86094}" type="slidenum">
              <a:rPr b="0" lang="en-US" sz="1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E5A0-5B3C-4DAC-9680-C0F07DFED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96BC-7D08-4CCD-BF0E-C4A693DB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AD45B-B90B-4B5A-89CB-1F5EFA98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1DCCA-B168-4825-8607-2DF7113F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3711C-73CB-45B8-9866-3AA2E198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9915E-CB9A-4ABA-AF14-0E32BF78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C4B45-3B2A-44FC-9212-9C95D75B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44A64-C6E1-42F4-B2DC-08E77260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3DB3E-DD17-49E5-9E42-9B5F9459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3A4D3-DCF5-4E57-8698-A28E31CF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09724-F6AA-4E8A-A634-56FE52028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6F7F-A4A3-4EC3-9EDA-94DBBF71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1E16-1BC5-4D73-BF50-E218AB7C7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18F7-7D03-4033-9A58-626B0A50D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B09C-7484-44EA-8D3F-CEC02489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8B35-93A9-4FB8-A410-95D74D17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38E0-5C00-4EE1-9254-7833E372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D534-BF3C-4161-A926-ADEFB449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DC2F-6B1D-42F8-8295-905D8153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3AA0-5F9E-4F83-A2BD-8165A578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FC2E-B855-45D2-9158-61A70B83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D03C-6847-4AF1-B0DB-2E9EBE8F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2E22-A042-4A01-98EB-1503BB6A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9911-2C0C-4A2D-B435-419A3199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65F6-D29D-4424-BE30-20D165BC3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8CBE-2F47-4263-A747-DD661E922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C5642-A3B9-4A42-B01B-2255D1F08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47F3A-8208-4B91-8859-7AD116DE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602C7-7CF9-45A7-A216-7AE9BFB4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0CC6E-15DE-4DD1-B058-AAFF240D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4C814-2188-42C3-855B-8293DAD5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7B40-EB08-4B84-8DE2-09C8ACA1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50330-4C81-4670-9C12-B5CDC638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5CD2B-9237-4514-A135-DF806DDB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E4C8B-D64D-456F-A6ED-DEF72DC6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F46D8-6D41-46B8-BD85-7CF48E4F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56D8C-A580-4054-A574-68A78DCF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E4B17-A983-4A4B-9D38-1823410E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8F15E-FEC5-409E-B9AB-F32E0AA1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76BD1-0C96-4B4F-A170-5918D8A2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64D03-3D86-4469-93EC-A95CD754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872C7-4472-4034-AAF1-32179A4C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49D7-B8B5-4148-AFDC-3317F98C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67285-0009-4830-A2D0-8B557A04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EA0E5-4E81-4E2B-86A3-42D2D258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7163E-E3E7-45F3-88DD-FDA8CE77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BF9B5-BA7C-45EC-9C70-FBC81469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CB4CE-1880-4E58-9F66-2E1E4D00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FE86D-73CF-4E3B-AFD4-C1575ED8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EB3EA-A344-4943-88C5-9D6BE6B0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590A3-E24E-4A74-B88A-BD506B81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7D5AE-958C-47AE-B81B-ABB0A0C11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D8AE1-C92B-480C-B4A5-7F59DCD25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BEAA-3062-464D-B97D-695C98C0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757CF-E6C1-436C-87E7-A50497C4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EB2E6-684B-479F-BDD0-A9CE9004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64A53-70C3-4A84-82AE-8238BF42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555BF-7B16-4276-B33E-C7AB4EAA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06F35-F39D-401F-A27C-B26DC449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BF064-D273-4A34-AB01-64D30D62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38C7E-5569-44EE-BD22-ADFEC1A7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2AB4E-FD31-4C1D-90EE-165ACB05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E48EB-C002-492F-BF4F-0C48AE26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1F4BC-AA39-4A7E-928E-AF211328B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B08B-33C3-416F-ABC3-577E40BD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C4351-9B8B-4DCA-AAC8-EF027D72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8A1AC-DD4B-45B5-B2F2-FF12D2E9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FF0AE-4F19-4F9D-83F4-1B12A9A3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999ED-CAF6-4A2C-875A-DBA48B5D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96F89-E450-478A-A146-1881887D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7D28C-467B-4557-B832-B496D9CF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3E307-37C5-44AE-A579-EBDE92FC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B1727-32B1-4F82-8F8C-6BD2444D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81102-777C-444B-AB3F-2FBEA6D8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C3258-793D-4886-8FA7-77B4763F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AAF2-FD63-4EF1-B5C0-BEB81AF9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CF861-9B29-4DE1-A18A-E24B58C0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62357-76FE-4811-BD64-378DBCAF2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C6104-BB00-4A2C-84F8-2D7E1E0A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CFE0E-CC18-4820-BF43-E7E801F8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C394C-78E1-43F4-A9C6-87E8EAC4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381C1-81BD-4ADF-88F7-35B1AFD2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510FB-CA03-47AF-A2A0-98CF5C27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C52A9-FE27-4698-BBBB-3F5BEB6B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D437D-1BF8-4957-9CA8-588DFE89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A2534-F08C-4A92-9326-D1D5A81F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2358-2858-4FA5-B018-FAFB07DD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4707C-E0CD-4619-9F8F-4E710CB0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1038E-B679-44AE-B265-342AA96E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B75D3-57AB-42D0-84E0-6A6EC08B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D11A7-648A-42FC-BD3A-D2C18F3E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BEE18-7AB4-4778-B635-FC4505A6C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5F264-8A16-436C-A0B8-956CCA087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F9F0E-328E-4B49-B105-34FF6409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FE43D-F9F4-481D-945B-2245B7A6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BC9BA-B88E-47C6-8C17-A8BE5458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968BF-EEE4-4386-8B54-09DD6B05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2F64-0AA2-45B6-8803-01C07BBF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EF7B4-0B2B-4A5B-BA8E-EA54784D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BB882-9721-4711-9C9E-7E2D8D12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65559-01B9-4187-A685-F4B9D459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76727-EB32-4C66-8DF4-A7F21D34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D591C-6744-44F6-A9F1-9765FF3C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EFD00-22AA-49A0-BF01-5C6B5A66C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8D2D3-67C6-4F1C-A3CF-4C046952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BA1F8-D370-44EA-9BDD-F833F167F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95370-D61D-41E8-8455-6C0D9F2A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AE5BB-EC9A-4701-AB00-DC919F17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26B8-2C92-4A7E-9A23-59E261D77BDF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FEA4-DA0E-4802-B602-2ABC8866386E}" type="slidenum">
              <a:rPr b="0" lang="en-C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6E8B-920E-45D6-A080-BC86F951FEEF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56F0-9039-4CC5-AFD0-3AA908616CA3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052A-E5D3-4280-AB69-4A0DF54D39C5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2B91-7DF3-41E3-8D84-50D8441F7F61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AC57-D33C-4866-92D3-A13A0024A79A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CADD-69F0-41C2-AE55-D9D459A0623C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CC2A-78E1-4A47-8929-B93C32A83A9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digre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 diagram of an individual’s ancestors used in human genetics to analyze the Mendelian inheritance of a certain trait; also used for selective breeding of plants and animals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help uncover the genotype of a particular member of a family, and they can be used to predict phenotypes and genotypes of future offspring.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Title 2" descr=""/>
          <p:cNvPicPr/>
          <p:nvPr/>
        </p:nvPicPr>
        <p:blipFill>
          <a:blip r:embed="rId1"/>
          <a:stretch/>
        </p:blipFill>
        <p:spPr>
          <a:xfrm>
            <a:off x="176040" y="274680"/>
            <a:ext cx="85107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228600" y="620280"/>
            <a:ext cx="8686800" cy="55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A woman who is a carrier of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hemophilia and a man who doesn’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have hemophilia want to hav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hildren. What are the chances thei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hildren will have hemophilia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H – non hemophiliac, h - hemophiliac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Woman: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Lucida Sans Unicode"/>
              </a:rPr>
              <a:t>h,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Man: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50CF-9FAC-4D7F-A5F8-AF95994C3EF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686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Genotype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emale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le: 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henotype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emale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le: 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212C-6BB4-49F4-ACD5-481B5AA7B6F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Ex. For each of the following pedigrees indicate whether the transmission of the trait is autosomal recessive, autosomal dominant or sex-linke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8" name="Picture 3" descr="C:\Users\Brian\Pictures\img003.jpg"/>
          <p:cNvPicPr/>
          <p:nvPr/>
        </p:nvPicPr>
        <p:blipFill>
          <a:blip r:embed="rId1"/>
          <a:stretch/>
        </p:blipFill>
        <p:spPr>
          <a:xfrm>
            <a:off x="971640" y="2852640"/>
            <a:ext cx="68403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8712000" cy="161460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9"/>
          <p:cNvSpPr/>
          <p:nvPr/>
        </p:nvSpPr>
        <p:spPr>
          <a:xfrm>
            <a:off x="123840" y="-5724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  <a:ea typeface="Arial"/>
              </a:rPr>
              <a:t>UNIT 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Text Box 11"/>
          <p:cNvSpPr/>
          <p:nvPr/>
        </p:nvSpPr>
        <p:spPr>
          <a:xfrm>
            <a:off x="1371600" y="-475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Chapter 5: Patterns of Inherita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Text Box 12"/>
          <p:cNvSpPr/>
          <p:nvPr/>
        </p:nvSpPr>
        <p:spPr>
          <a:xfrm>
            <a:off x="7620120" y="-4428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Section 5.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Picture 2" descr="D:\Pictures\Bio11\Ch5\FigU2-18_p219.jpg"/>
          <p:cNvPicPr/>
          <p:nvPr/>
        </p:nvPicPr>
        <p:blipFill>
          <a:blip r:embed="rId2"/>
          <a:stretch/>
        </p:blipFill>
        <p:spPr>
          <a:xfrm>
            <a:off x="1530360" y="1557360"/>
            <a:ext cx="59292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208080" y="268200"/>
            <a:ext cx="8935920" cy="105408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9"/>
          <p:cNvSpPr/>
          <p:nvPr/>
        </p:nvSpPr>
        <p:spPr>
          <a:xfrm>
            <a:off x="123840" y="-5724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  <a:ea typeface="Arial"/>
              </a:rPr>
              <a:t>UNIT 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7620120" y="-4428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Section 5.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4" name="Picture 2" descr="D:\Pictures\Bio11\Ch5\table5.png"/>
          <p:cNvPicPr/>
          <p:nvPr/>
        </p:nvPicPr>
        <p:blipFill>
          <a:blip r:embed="rId2"/>
          <a:stretch/>
        </p:blipFill>
        <p:spPr>
          <a:xfrm>
            <a:off x="306360" y="1268280"/>
            <a:ext cx="8705880" cy="11620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" descr="D:\Pictures\Bio11\Ch5\FigU2-19_p221.jpg"/>
          <p:cNvPicPr/>
          <p:nvPr/>
        </p:nvPicPr>
        <p:blipFill>
          <a:blip r:embed="rId3"/>
          <a:stretch/>
        </p:blipFill>
        <p:spPr>
          <a:xfrm>
            <a:off x="299880" y="2565360"/>
            <a:ext cx="4262760" cy="167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6" name="Picture 4" descr="D:\Pictures\Bio11\Ch5\FigU2-20_p221.jpg"/>
          <p:cNvPicPr/>
          <p:nvPr/>
        </p:nvPicPr>
        <p:blipFill>
          <a:blip r:embed="rId4"/>
          <a:stretch/>
        </p:blipFill>
        <p:spPr>
          <a:xfrm>
            <a:off x="4691160" y="2560680"/>
            <a:ext cx="3790800" cy="167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7" name="Text Box 4"/>
          <p:cNvSpPr/>
          <p:nvPr/>
        </p:nvSpPr>
        <p:spPr>
          <a:xfrm>
            <a:off x="539640" y="4365720"/>
            <a:ext cx="3313080" cy="115956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4888080" y="4473720"/>
            <a:ext cx="3816360" cy="115956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TextBox 3"/>
          <p:cNvSpPr/>
          <p:nvPr/>
        </p:nvSpPr>
        <p:spPr>
          <a:xfrm>
            <a:off x="3213360" y="5651640"/>
            <a:ext cx="533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Recall: Autosomal disorders are found on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chromosomes 1-22, not on X or Y chromosom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Rectangle 2" descr=""/>
          <p:cNvPicPr/>
          <p:nvPr/>
        </p:nvPicPr>
        <p:blipFill>
          <a:blip r:embed="rId1"/>
          <a:stretch/>
        </p:blipFill>
        <p:spPr>
          <a:xfrm>
            <a:off x="201600" y="146160"/>
            <a:ext cx="8485200" cy="127476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9"/>
          <p:cNvSpPr/>
          <p:nvPr/>
        </p:nvSpPr>
        <p:spPr>
          <a:xfrm>
            <a:off x="123840" y="-5724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  <a:ea typeface="Arial"/>
              </a:rPr>
              <a:t>UNIT 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Text Box 11"/>
          <p:cNvSpPr/>
          <p:nvPr/>
        </p:nvSpPr>
        <p:spPr>
          <a:xfrm>
            <a:off x="1371600" y="-475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Chapter 5: Patterns of Inherita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Text Box 12"/>
          <p:cNvSpPr/>
          <p:nvPr/>
        </p:nvSpPr>
        <p:spPr>
          <a:xfrm>
            <a:off x="7620120" y="-4428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Section 5.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401760" y="4460760"/>
            <a:ext cx="3457440" cy="137268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4641840" y="5200560"/>
            <a:ext cx="3816360" cy="137268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6" name="Picture 2" descr="D:\Pictures\Bio11\Ch5\table5b.png"/>
          <p:cNvPicPr/>
          <p:nvPr/>
        </p:nvPicPr>
        <p:blipFill>
          <a:blip r:embed="rId2"/>
          <a:stretch/>
        </p:blipFill>
        <p:spPr>
          <a:xfrm>
            <a:off x="401760" y="1197000"/>
            <a:ext cx="8480160" cy="11620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" descr="D:\Pictures\Bio11\Ch5\FigU2-21_p222.jpg"/>
          <p:cNvPicPr/>
          <p:nvPr/>
        </p:nvPicPr>
        <p:blipFill>
          <a:blip r:embed="rId3"/>
          <a:stretch/>
        </p:blipFill>
        <p:spPr>
          <a:xfrm>
            <a:off x="585720" y="2467080"/>
            <a:ext cx="3853080" cy="153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8" name="Picture 4" descr="D:\Pictures\Bio11\Ch5\FigU2-22_p222.jpg"/>
          <p:cNvPicPr/>
          <p:nvPr/>
        </p:nvPicPr>
        <p:blipFill>
          <a:blip r:embed="rId4"/>
          <a:stretch/>
        </p:blipFill>
        <p:spPr>
          <a:xfrm>
            <a:off x="4879800" y="2687760"/>
            <a:ext cx="3340440" cy="240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457200" y="69192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Ex. The pedigree below shows three generations of a family with one individual (#7) has cystic fibrosis.  Indicate all possible genotypes for all the individua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0" name="Picture 3" descr="C:\Users\Brian\Pictures\img003 - Copy.jpg"/>
          <p:cNvPicPr/>
          <p:nvPr/>
        </p:nvPicPr>
        <p:blipFill>
          <a:blip r:embed="rId1"/>
          <a:stretch/>
        </p:blipFill>
        <p:spPr>
          <a:xfrm>
            <a:off x="2124000" y="2708280"/>
            <a:ext cx="568800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253800" y="9810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-45720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n individual’s sex is determin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by X and Y chromosom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emale:   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ale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n females, only one X chromosome is active – one of the X chromosomes is inactivated (at random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4D06-2D4B-4FFE-84D3-206CDF4275F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3" name="Rectangle 2" descr=""/>
          <p:cNvPicPr/>
          <p:nvPr/>
        </p:nvPicPr>
        <p:blipFill>
          <a:blip r:embed="rId1"/>
          <a:stretch/>
        </p:blipFill>
        <p:spPr>
          <a:xfrm>
            <a:off x="298440" y="0"/>
            <a:ext cx="8083440" cy="13590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5" descr=""/>
          <p:cNvPicPr/>
          <p:nvPr/>
        </p:nvPicPr>
        <p:blipFill>
          <a:blip r:embed="rId2"/>
          <a:stretch/>
        </p:blipFill>
        <p:spPr>
          <a:xfrm>
            <a:off x="7308720" y="4888080"/>
            <a:ext cx="172260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X-linked genes are located on the X chromosom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ost sex linked traits are carried only on the X chromosome and not on the Y chromosome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6" name="Title 2" descr=""/>
          <p:cNvPicPr/>
          <p:nvPr/>
        </p:nvPicPr>
        <p:blipFill>
          <a:blip r:embed="rId1"/>
          <a:stretch/>
        </p:blipFill>
        <p:spPr>
          <a:xfrm>
            <a:off x="176040" y="274680"/>
            <a:ext cx="85107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468000" y="1197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In chickens, skin colour is determined by a sex-linked trait. The dominant skin colour is black and the recessive skin colour is green. Show a cross between a heterozygous female and a green male. State the phenotypes and genotypes of the offspr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1650-7369-4A6A-97E8-A44C18C9FDF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9" name="Title 5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380520" y="1294920"/>
            <a:ext cx="815364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les are more likely to ______ these disorders since they only have _______ copy of the ________ chromosome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F68F-9F62-41CC-87CE-AF49F636E10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2" name="Title 1" descr=""/>
          <p:cNvPicPr/>
          <p:nvPr/>
        </p:nvPicPr>
        <p:blipFill>
          <a:blip r:embed="rId1"/>
          <a:stretch/>
        </p:blipFill>
        <p:spPr>
          <a:xfrm>
            <a:off x="146160" y="176040"/>
            <a:ext cx="777852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17:47:46Z</dcterms:created>
  <dc:creator>Brian</dc:creator>
  <dc:description/>
  <dc:language>en-US</dc:language>
  <cp:lastModifiedBy>Tien, Jean (EDU)</cp:lastModifiedBy>
  <cp:lastPrinted>2012-10-01T12:15:57Z</cp:lastPrinted>
  <dcterms:modified xsi:type="dcterms:W3CDTF">2017-10-04T13:44:40Z</dcterms:modified>
  <cp:revision>11</cp:revision>
  <dc:subject/>
  <dc:title>Pedigrees</dc:title>
</cp:coreProperties>
</file>