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1.png" ContentType="image/png"/>
  <Override PartName="/ppt/media/image10.png" ContentType="image/png"/>
  <Override PartName="/ppt/media/image6.jpeg" ContentType="image/jpeg"/>
  <Override PartName="/ppt/media/image7.png" ContentType="image/png"/>
  <Override PartName="/ppt/media/image8.png" ContentType="image/png"/>
  <Override PartName="/ppt/media/image5.jpeg" ContentType="image/jpeg"/>
  <Override PartName="/ppt/media/image13.jpeg" ContentType="image/jpeg"/>
  <Override PartName="/ppt/media/image23.png" ContentType="image/png"/>
  <Override PartName="/ppt/media/image4.png" ContentType="image/png"/>
  <Override PartName="/ppt/media/image22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8.jpeg" ContentType="image/jpeg"/>
  <Override PartName="/ppt/media/image16.jpeg" ContentType="image/jpeg"/>
  <Override PartName="/ppt/media/image24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media/image2.png" ContentType="image/png"/>
  <Override PartName="/ppt/media/image9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dt" idx="28"/>
          </p:nvPr>
        </p:nvSpPr>
        <p:spPr>
          <a:xfrm>
            <a:off x="396360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880" rIns="92880" tIns="46440" bIns="46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 type="ftr" idx="29"/>
          </p:nvPr>
        </p:nvSpPr>
        <p:spPr>
          <a:xfrm>
            <a:off x="-3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3" name="PlaceHolder 6"/>
          <p:cNvSpPr>
            <a:spLocks noGrp="1"/>
          </p:cNvSpPr>
          <p:nvPr>
            <p:ph type="sldNum" idx="30"/>
          </p:nvPr>
        </p:nvSpPr>
        <p:spPr>
          <a:xfrm>
            <a:off x="396360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235EE-A12F-42C0-A727-3ED240A6728F}" type="slidenum">
              <a:rPr b="0" lang="en-CA" sz="12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ＭＳ Ｐゴシック"/>
            </a:endParaRPr>
          </a:p>
        </p:txBody>
      </p:sp>
      <p:sp>
        <p:nvSpPr>
          <p:cNvPr id="471" name="Slide Number Placeholder 3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E6778-C387-481B-BF58-E4890FB7C983}" type="slidenum">
              <a:rPr b="0" lang="en-US" sz="12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ＭＳ Ｐゴシック"/>
            </a:endParaRPr>
          </a:p>
        </p:txBody>
      </p:sp>
      <p:sp>
        <p:nvSpPr>
          <p:cNvPr id="474" name="Slide Number Placeholder 3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18436-C1FD-450C-A71D-0FA80EBD7E6C}" type="slidenum">
              <a:rPr b="0" lang="en-US" sz="12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ＭＳ Ｐゴシック"/>
            </a:endParaRPr>
          </a:p>
        </p:txBody>
      </p:sp>
      <p:sp>
        <p:nvSpPr>
          <p:cNvPr id="477" name="Slide Number Placeholder 3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4BB51-1E8F-4472-89A8-498B0AC6F174}" type="slidenum">
              <a:rPr b="0" lang="en-US" sz="12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DEBF3-3703-44A9-BDD4-B2FC6CC3E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6CCA6-9A6C-4501-943D-963A131E4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3E5481-9AC2-435E-8A25-1B6AC038D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DE9191-05E8-41D3-80AA-25EBDBDF1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9CDED6-6604-4700-A129-04291BA08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C71803-DA9B-414B-A49A-272FA9D1A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F1A663-9BEB-4816-8024-5E22F9DC6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2DFDA1-AB20-47E9-88CE-94AF7B9DF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F8279F-C8DA-42DF-9CD5-95B7C18A7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9F78FF-082E-4965-924E-BE7D982EB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2D1DFB-AB14-4E7E-B388-1CAE25721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E6200-D2FF-4BFF-8A01-6F21EB54B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A0A39-B155-40D3-B50C-B3354991C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253D2-8B61-4CCC-8BB5-5A3A9FFDA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4F5B0-0F4C-4027-B533-BEC624A3A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173FD-0ABF-46DA-8C3E-ADF74D785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5C9B2-484E-4C69-8D8E-2ACA0E04B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7BCEC-AA5E-46C3-B932-008E583C3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EEACD-A709-434E-BC86-38C2BD2D2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9E266-B0B5-4287-9DF6-24EEDFCE8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A4C4F-F1FA-4666-B789-9B0039DA7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CF939-E76A-425B-AD60-56B90266A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EDF95-5AC3-48F6-A556-FBE0A445E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CB551-A581-49D7-90A7-5E0BA366B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2332C-AF01-4437-A727-4DE51404C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2A2C1-294A-490A-9815-2C616C40F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1673EC-F4FB-4270-BA92-C0323D3E9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34166B-6EDB-4B2D-9639-FCDAD3052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ED176C-9004-465D-B54B-A7AE4B9C0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DD9637-3235-4123-B54C-BC9A6BDDD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C22DD7-82A1-4D5E-A1BF-7C8D23179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846E6-F874-4CCB-A098-045CCF29C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DDF793-F45E-4F40-9147-7C814B173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FE1271-56F9-4755-BE8F-06A9146FB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4B1973-99AC-4FB8-8FBA-65C10009A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CD8FE6-5905-458C-8B3B-504934E4E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08F398-AF9E-459F-A41F-8992F9607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0E893D-F4CB-440C-A0A4-23FDDEC86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A79384-624C-49C2-8F92-F462ED491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13AC17-572F-4A59-B2C4-2639F02A4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24FAF8-84CB-4B85-820F-5D758EADA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145266-1113-47E6-8353-289DDB497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32168-7086-4E35-B730-AE30B5085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695F4B-8367-43CB-ACFA-2F45AB7B6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D8DA1B-F807-48BE-B32D-42101AAC9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572F7F-BC6F-45B3-99A2-ABE1B0035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DC0913-0688-42C1-BBD9-983C72258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A5020E-2EA1-4105-BECD-8E334346C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8EFFA3-B43E-46D3-B650-D813419CB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044EB3-0FC7-4C3F-971A-2DDEE1BE7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2F315A-046D-4CE9-86F2-EAF83C43F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FB8608-48E5-4888-8253-6B14A35D1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FD2470-CA64-4CA5-9926-623151491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FE869-F9D7-4BC1-BA86-A6114C5B5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56B475-B1F0-4315-B825-E0D7B9FEF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BD2102-405B-4A88-B4A9-9B46F933F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AD8E6F-32EA-491A-B89C-525789F30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616560-5DA1-479D-8581-7F4A48251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D0665E-FFE2-45BB-9AA3-1D697DF27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3C5993-A836-4E6B-B32C-6E2E23032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A0800C-3FFE-4FFA-8785-D6C0818B1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8FA488-4169-4D21-88B0-94E777319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BE1759-FED2-4A32-8667-EC3AAAAD1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3FD537-1416-494B-A4E5-F5E912AC7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1A143-2414-4E46-B2F1-740BC5F18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C313B2-4D69-4B20-BB7A-AE8200FF2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057D69-EC98-4015-9508-5F2A2041E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263B93-F6A5-4EB9-9A4B-115BAC1EA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B55D10-00CF-42B4-8A45-A7677DB7B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56E629-056C-4A13-81DE-4B36492E8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0007A6-31B7-41DA-8FF1-C556B0CE9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68DE26-A7C4-4960-99E6-E12438E92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8D614A-E4AF-4665-A41B-FA95E30AE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886AAD-A672-4BC8-971A-DBE0726A6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09107A-CB21-4E3E-957B-B6FA860E2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BBC37-2B5D-4FAD-BA44-7BF2BFA25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6B64A9-EAF9-4015-A15F-664B3F328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20B90F-3655-49B6-8BBB-408194699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72381F-5BF4-440D-9AB0-669126C83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DF7FDA-68D1-4F13-A799-8B8B7B735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0D8A21-A610-4355-AFCF-B2BD0F6C7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0D8103-6F67-41D7-8789-8531F4E81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C7B5D4-23BB-4EE6-8CC5-A8FEC039A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92CB2E-7636-400A-9C30-24B7E0428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BD8DDE-4D6D-44E8-947C-33DF2E9CC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4C08D9-4956-44C1-8462-963E62C3A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63297-CAE9-476B-BBD8-73F2C865C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12174B-EC8F-43E0-A4AB-89F0E6029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E69449-3EC5-4670-8E80-F77DC2E6E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8E6AF7-B499-47AE-950E-90B01F23F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7F3C19-90C1-4486-86AF-C6F61128B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752764-08FC-46B4-9354-78AEB2A01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33D983-1BC8-4F57-9970-49BAC3719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D1C7A3-3107-4E06-9B2E-ACF384830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64DEBE-E36C-45CC-B3F3-B31F9BBB4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44BC37-B5A9-47D1-AC59-EEC4D9E6D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C70B01-E32A-417B-A49B-C81259CDD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15128-9A02-49C1-864A-F22F4EAFF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85BDEC-DBD2-42F0-8B1C-6D2243BB8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166902-C6CF-4D87-A706-B0E1D272B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DAA378-E94E-4E7A-B48B-3EA2D2413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ED82A1-F3AA-4933-B669-F53B337AA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EFB81B-C82C-429D-BADC-5E2640F17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F8F8AF-C1D1-431E-B6B7-FB1E44A58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1BE8F8-852F-49D9-BA3E-804EDC29A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169882-DA23-43DD-964E-30157FB6E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829E35-3C6B-464A-87DA-B03AA128D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45170D-55DF-44E8-B3A7-2C530D7FC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A965C-4023-407F-9DEE-0675CF957820}" type="slidenum">
              <a:rPr b="0" lang="en-CA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5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4640" y="5237640"/>
              <a:ext cx="9099360" cy="788400"/>
            </a:xfrm>
            <a:custGeom>
              <a:avLst/>
              <a:gdLst>
                <a:gd name="textAreaLeft" fmla="*/ 0 w 9099360"/>
                <a:gd name="textAreaRight" fmla="*/ 9099720 w 9099360"/>
                <a:gd name="textAreaTop" fmla="*/ 0 h 788400"/>
                <a:gd name="textAreaBottom" fmla="*/ 788760 h 7884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grpSp>
          <p:nvGrpSpPr>
            <p:cNvPr id="51" name="Freeform 18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Freeform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</p:grpSp>
        <p:pic>
          <p:nvPicPr>
            <p:cNvPr id="54" name="Straight Connector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CB995-7914-4316-90BE-FAEEC0AEEB7A}" type="slidenum">
              <a:rPr b="0" lang="en-CA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" name="Chevron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102E7-D825-4A0F-867D-8E8946C13812}" type="slidenum">
              <a:rPr b="0" lang="en-CA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AC444-5588-4AC3-AC22-B126B2226257}" type="slidenum">
              <a:rPr b="0" lang="en-CA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4E507-44B7-4537-A21F-89C1D04D708D}" type="slidenum">
              <a:rPr b="0" lang="en-CA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DD9BD-434D-4669-945D-9502B9166340}" type="slidenum">
              <a:rPr b="0" lang="en-CA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582B5-E984-4586-8068-2AAAF58470DA}" type="slidenum">
              <a:rPr b="0" lang="en-CA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323" name="Right Triangle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Right Triangle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326" name="Straight Connector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8" name="Chevron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71638-D606-4F60-83EE-5D7526486597}" type="slidenum">
              <a:rPr b="0" lang="en-CA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372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7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37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BE0B3-AC66-4FB4-B98C-A185BDD91DB4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1" lang="en-US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digree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a diagram of an individual’s ancestors used in human genetics to analyze the Mendelian inheritance of a certain trait; also used for selective breeding of plants and animals</a:t>
            </a: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y help uncover the genotype of a particular member of a family, and they can be used to predict phenotypes and genotypes of future offspring.</a:t>
            </a: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5" name="Title 2" descr=""/>
          <p:cNvPicPr/>
          <p:nvPr/>
        </p:nvPicPr>
        <p:blipFill>
          <a:blip r:embed="rId1"/>
          <a:stretch/>
        </p:blipFill>
        <p:spPr>
          <a:xfrm>
            <a:off x="176040" y="274680"/>
            <a:ext cx="8510760" cy="12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 txBox="1"/>
          <p:nvPr/>
        </p:nvSpPr>
        <p:spPr>
          <a:xfrm>
            <a:off x="228600" y="620280"/>
            <a:ext cx="8686800" cy="555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Example: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A woman who is a carrier of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hemophilia and a man who doesn’t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have hemophilia want to have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children. What are the chances their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children will have hemophilia?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H – non hemophiliac, h - hemophiliac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Woman: 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Lucida Sans Unicode"/>
              </a:rPr>
              <a:t>H</a:t>
            </a: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Lucida Sans Unicode"/>
              </a:rPr>
              <a:t>h,</a:t>
            </a: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 Man: 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Lucida Sans Unicode"/>
              </a:rPr>
              <a:t>H</a:t>
            </a: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Y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4" name="Slide Numb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6EB1C-F906-4A15-B486-EC32A47F136D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4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4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/>
          </p:nvPr>
        </p:nvSpPr>
        <p:spPr>
          <a:xfrm>
            <a:off x="457200" y="304560"/>
            <a:ext cx="868680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Lucida Sans Unicode"/>
              </a:rPr>
              <a:t>Genotype: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Female: 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Male:  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Lucida Sans Unicode"/>
              </a:rPr>
              <a:t>Phenotype: 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Female: 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Male:  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00E46-8F38-440C-81B8-654BF6DCED28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 txBox="1"/>
          <p:nvPr/>
        </p:nvSpPr>
        <p:spPr>
          <a:xfrm>
            <a:off x="457200" y="549360"/>
            <a:ext cx="8229600" cy="54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Lucida Sans Unicode"/>
              </a:rPr>
              <a:t>Ex. For each of the following pedigrees indicate whether the transmission of the trait is autosomal recessive, autosomal dominant or sex-linked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68" name="Picture 3" descr="C:\Users\Brian\Pictures\img003.jpg"/>
          <p:cNvPicPr/>
          <p:nvPr/>
        </p:nvPicPr>
        <p:blipFill>
          <a:blip r:embed="rId1"/>
          <a:stretch/>
        </p:blipFill>
        <p:spPr>
          <a:xfrm>
            <a:off x="971640" y="2852640"/>
            <a:ext cx="6840360" cy="201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Rectangle 2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8712000" cy="1614600"/>
          </a:xfrm>
          <a:prstGeom prst="rect">
            <a:avLst/>
          </a:prstGeom>
          <a:ln w="0">
            <a:noFill/>
          </a:ln>
        </p:spPr>
      </p:pic>
      <p:sp>
        <p:nvSpPr>
          <p:cNvPr id="427" name="Text Box 9"/>
          <p:cNvSpPr/>
          <p:nvPr/>
        </p:nvSpPr>
        <p:spPr>
          <a:xfrm>
            <a:off x="123840" y="-57240"/>
            <a:ext cx="15238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 MT"/>
                <a:ea typeface="Arial"/>
              </a:rPr>
              <a:t>UNIT 2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8" name="Text Box 11"/>
          <p:cNvSpPr/>
          <p:nvPr/>
        </p:nvSpPr>
        <p:spPr>
          <a:xfrm>
            <a:off x="1371600" y="-47520"/>
            <a:ext cx="624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  <a:ea typeface="Arial"/>
              </a:rPr>
              <a:t>Chapter 5: Patterns of Inheritance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9" name="Text Box 12"/>
          <p:cNvSpPr/>
          <p:nvPr/>
        </p:nvSpPr>
        <p:spPr>
          <a:xfrm>
            <a:off x="7620120" y="-4428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  <a:ea typeface="Arial"/>
              </a:rPr>
              <a:t>Section 5.3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0" name="Picture 2" descr="D:\Pictures\Bio11\Ch5\FigU2-18_p219.jpg"/>
          <p:cNvPicPr/>
          <p:nvPr/>
        </p:nvPicPr>
        <p:blipFill>
          <a:blip r:embed="rId2"/>
          <a:stretch/>
        </p:blipFill>
        <p:spPr>
          <a:xfrm>
            <a:off x="1530360" y="1557360"/>
            <a:ext cx="5929200" cy="53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1" name="Rectangle 2" descr=""/>
          <p:cNvPicPr/>
          <p:nvPr/>
        </p:nvPicPr>
        <p:blipFill>
          <a:blip r:embed="rId1"/>
          <a:stretch/>
        </p:blipFill>
        <p:spPr>
          <a:xfrm>
            <a:off x="208080" y="268200"/>
            <a:ext cx="8935920" cy="1054080"/>
          </a:xfrm>
          <a:prstGeom prst="rect">
            <a:avLst/>
          </a:prstGeom>
          <a:ln w="0">
            <a:noFill/>
          </a:ln>
        </p:spPr>
      </p:pic>
      <p:sp>
        <p:nvSpPr>
          <p:cNvPr id="432" name="Text Box 9"/>
          <p:cNvSpPr/>
          <p:nvPr/>
        </p:nvSpPr>
        <p:spPr>
          <a:xfrm>
            <a:off x="123840" y="-57240"/>
            <a:ext cx="15238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 MT"/>
                <a:ea typeface="Arial"/>
              </a:rPr>
              <a:t>UNIT 2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3" name="Text Box 12"/>
          <p:cNvSpPr/>
          <p:nvPr/>
        </p:nvSpPr>
        <p:spPr>
          <a:xfrm>
            <a:off x="7620120" y="-4428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  <a:ea typeface="Arial"/>
              </a:rPr>
              <a:t>Section 5.3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4" name="Picture 2" descr="D:\Pictures\Bio11\Ch5\table5.png"/>
          <p:cNvPicPr/>
          <p:nvPr/>
        </p:nvPicPr>
        <p:blipFill>
          <a:blip r:embed="rId2"/>
          <a:stretch/>
        </p:blipFill>
        <p:spPr>
          <a:xfrm>
            <a:off x="306360" y="1268280"/>
            <a:ext cx="8705880" cy="116208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3" descr="D:\Pictures\Bio11\Ch5\FigU2-19_p221.jpg"/>
          <p:cNvPicPr/>
          <p:nvPr/>
        </p:nvPicPr>
        <p:blipFill>
          <a:blip r:embed="rId3"/>
          <a:stretch/>
        </p:blipFill>
        <p:spPr>
          <a:xfrm>
            <a:off x="299880" y="2565360"/>
            <a:ext cx="4262760" cy="1674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36" name="Picture 4" descr="D:\Pictures\Bio11\Ch5\FigU2-20_p221.jpg"/>
          <p:cNvPicPr/>
          <p:nvPr/>
        </p:nvPicPr>
        <p:blipFill>
          <a:blip r:embed="rId4"/>
          <a:stretch/>
        </p:blipFill>
        <p:spPr>
          <a:xfrm>
            <a:off x="4691160" y="2560680"/>
            <a:ext cx="3790800" cy="1679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37" name="Text Box 4"/>
          <p:cNvSpPr/>
          <p:nvPr/>
        </p:nvSpPr>
        <p:spPr>
          <a:xfrm>
            <a:off x="539640" y="4365720"/>
            <a:ext cx="3313080" cy="1159560"/>
          </a:xfrm>
          <a:prstGeom prst="rect">
            <a:avLst/>
          </a:prstGeom>
          <a:solidFill>
            <a:srgbClr val="80ff00">
              <a:alpha val="3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8" name="Text Box 4"/>
          <p:cNvSpPr/>
          <p:nvPr/>
        </p:nvSpPr>
        <p:spPr>
          <a:xfrm>
            <a:off x="4888080" y="4473720"/>
            <a:ext cx="3816360" cy="1159560"/>
          </a:xfrm>
          <a:prstGeom prst="rect">
            <a:avLst/>
          </a:prstGeom>
          <a:solidFill>
            <a:srgbClr val="80ff00">
              <a:alpha val="3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9" name="TextBox 3"/>
          <p:cNvSpPr/>
          <p:nvPr/>
        </p:nvSpPr>
        <p:spPr>
          <a:xfrm>
            <a:off x="3213360" y="5651640"/>
            <a:ext cx="533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Lucida Sans Unicode"/>
                <a:ea typeface="Arial"/>
              </a:rPr>
              <a:t>Recall: Autosomal disorders are found on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Lucida Sans Unicode"/>
                <a:ea typeface="Arial"/>
              </a:rPr>
              <a:t>chromosomes 1-22, not on X or Y chromosomes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0" name="Rectangle 2" descr=""/>
          <p:cNvPicPr/>
          <p:nvPr/>
        </p:nvPicPr>
        <p:blipFill>
          <a:blip r:embed="rId1"/>
          <a:stretch/>
        </p:blipFill>
        <p:spPr>
          <a:xfrm>
            <a:off x="201600" y="146160"/>
            <a:ext cx="8485200" cy="1274760"/>
          </a:xfrm>
          <a:prstGeom prst="rect">
            <a:avLst/>
          </a:prstGeom>
          <a:ln w="0">
            <a:noFill/>
          </a:ln>
        </p:spPr>
      </p:pic>
      <p:sp>
        <p:nvSpPr>
          <p:cNvPr id="441" name="Text Box 9"/>
          <p:cNvSpPr/>
          <p:nvPr/>
        </p:nvSpPr>
        <p:spPr>
          <a:xfrm>
            <a:off x="123840" y="-57240"/>
            <a:ext cx="15238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 MT"/>
                <a:ea typeface="Arial"/>
              </a:rPr>
              <a:t>UNIT 2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2" name="Text Box 11"/>
          <p:cNvSpPr/>
          <p:nvPr/>
        </p:nvSpPr>
        <p:spPr>
          <a:xfrm>
            <a:off x="1371600" y="-47520"/>
            <a:ext cx="624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  <a:ea typeface="Arial"/>
              </a:rPr>
              <a:t>Chapter 5: Patterns of Inheritance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3" name="Text Box 12"/>
          <p:cNvSpPr/>
          <p:nvPr/>
        </p:nvSpPr>
        <p:spPr>
          <a:xfrm>
            <a:off x="7620120" y="-4428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  <a:ea typeface="Arial"/>
              </a:rPr>
              <a:t>Section 5.3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4" name="Text Box 4"/>
          <p:cNvSpPr/>
          <p:nvPr/>
        </p:nvSpPr>
        <p:spPr>
          <a:xfrm>
            <a:off x="401760" y="4460760"/>
            <a:ext cx="3457440" cy="1372680"/>
          </a:xfrm>
          <a:prstGeom prst="rect">
            <a:avLst/>
          </a:prstGeom>
          <a:solidFill>
            <a:srgbClr val="80ff00">
              <a:alpha val="3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5" name="Text Box 4"/>
          <p:cNvSpPr/>
          <p:nvPr/>
        </p:nvSpPr>
        <p:spPr>
          <a:xfrm>
            <a:off x="4641840" y="5200560"/>
            <a:ext cx="3816360" cy="1372680"/>
          </a:xfrm>
          <a:prstGeom prst="rect">
            <a:avLst/>
          </a:prstGeom>
          <a:solidFill>
            <a:srgbClr val="80ff00">
              <a:alpha val="3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46" name="Picture 2" descr="D:\Pictures\Bio11\Ch5\table5b.png"/>
          <p:cNvPicPr/>
          <p:nvPr/>
        </p:nvPicPr>
        <p:blipFill>
          <a:blip r:embed="rId2"/>
          <a:stretch/>
        </p:blipFill>
        <p:spPr>
          <a:xfrm>
            <a:off x="401760" y="1197000"/>
            <a:ext cx="8480160" cy="1162080"/>
          </a:xfrm>
          <a:prstGeom prst="rect">
            <a:avLst/>
          </a:prstGeom>
          <a:ln w="0">
            <a:noFill/>
          </a:ln>
        </p:spPr>
      </p:pic>
      <p:pic>
        <p:nvPicPr>
          <p:cNvPr id="447" name="Picture 3" descr="D:\Pictures\Bio11\Ch5\FigU2-21_p222.jpg"/>
          <p:cNvPicPr/>
          <p:nvPr/>
        </p:nvPicPr>
        <p:blipFill>
          <a:blip r:embed="rId3"/>
          <a:stretch/>
        </p:blipFill>
        <p:spPr>
          <a:xfrm>
            <a:off x="585720" y="2467080"/>
            <a:ext cx="3853080" cy="1535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48" name="Picture 4" descr="D:\Pictures\Bio11\Ch5\FigU2-22_p222.jpg"/>
          <p:cNvPicPr/>
          <p:nvPr/>
        </p:nvPicPr>
        <p:blipFill>
          <a:blip r:embed="rId4"/>
          <a:stretch/>
        </p:blipFill>
        <p:spPr>
          <a:xfrm>
            <a:off x="4879800" y="2687760"/>
            <a:ext cx="3340440" cy="2400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 txBox="1"/>
          <p:nvPr/>
        </p:nvSpPr>
        <p:spPr>
          <a:xfrm>
            <a:off x="457200" y="691920"/>
            <a:ext cx="8229600" cy="53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Lucida Sans Unicode"/>
              </a:rPr>
              <a:t>Ex. The pedigree below shows three generations of a family with one individual (#7) has cystic fibrosis.  Indicate all possible genotypes for all the individual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50" name="Picture 3" descr="C:\Users\Brian\Pictures\img003 - Copy.jpg"/>
          <p:cNvPicPr/>
          <p:nvPr/>
        </p:nvPicPr>
        <p:blipFill>
          <a:blip r:embed="rId1"/>
          <a:stretch/>
        </p:blipFill>
        <p:spPr>
          <a:xfrm>
            <a:off x="2124000" y="2708280"/>
            <a:ext cx="5688000" cy="38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 txBox="1"/>
          <p:nvPr/>
        </p:nvSpPr>
        <p:spPr>
          <a:xfrm>
            <a:off x="253800" y="98100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66640" indent="-457200">
              <a:lnSpc>
                <a:spcPct val="12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An individual’s sex is determined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 by X and Y chromosomes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66640" indent="-457200">
              <a:lnSpc>
                <a:spcPct val="12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Female:   </a:t>
            </a: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Male: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66640" indent="-457200">
              <a:lnSpc>
                <a:spcPct val="12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In females, only one X chromosome is active – one of the X chromosomes is inactivated (at random)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2" name="Slide Numb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CF9A3-B1B2-40EF-8911-0EB8B9A29FB4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53" name="Rectangle 2" descr=""/>
          <p:cNvPicPr/>
          <p:nvPr/>
        </p:nvPicPr>
        <p:blipFill>
          <a:blip r:embed="rId1"/>
          <a:stretch/>
        </p:blipFill>
        <p:spPr>
          <a:xfrm>
            <a:off x="298440" y="0"/>
            <a:ext cx="8083440" cy="1359000"/>
          </a:xfrm>
          <a:prstGeom prst="rect">
            <a:avLst/>
          </a:prstGeom>
          <a:ln w="0">
            <a:noFill/>
          </a:ln>
        </p:spPr>
      </p:pic>
      <p:pic>
        <p:nvPicPr>
          <p:cNvPr id="454" name="Picture 5" descr=""/>
          <p:cNvPicPr/>
          <p:nvPr/>
        </p:nvPicPr>
        <p:blipFill>
          <a:blip r:embed="rId2"/>
          <a:stretch/>
        </p:blipFill>
        <p:spPr>
          <a:xfrm>
            <a:off x="7308720" y="4888080"/>
            <a:ext cx="1722600" cy="180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4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4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X-linked genes are located on the X chromosome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Most sex linked traits are carried only on the X chromosome and not on the Y chromosome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56" name="Title 2" descr=""/>
          <p:cNvPicPr/>
          <p:nvPr/>
        </p:nvPicPr>
        <p:blipFill>
          <a:blip r:embed="rId1"/>
          <a:stretch/>
        </p:blipFill>
        <p:spPr>
          <a:xfrm>
            <a:off x="176040" y="274680"/>
            <a:ext cx="8510760" cy="12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 txBox="1"/>
          <p:nvPr/>
        </p:nvSpPr>
        <p:spPr>
          <a:xfrm>
            <a:off x="468000" y="11970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Lucida Sans Unicode"/>
              </a:rPr>
              <a:t>In chickens, skin colour is determined by a sex-linked trait. The dominant skin colour is black and the recessive skin colour is green. Show a cross between a heterozygous female and a green male. State the phenotypes and genotypes of the offspring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8" name="Slide Numb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A7E77-4FEA-4F23-8521-72A24206B99B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59" name="Title 5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"/>
          <p:cNvSpPr txBox="1"/>
          <p:nvPr/>
        </p:nvSpPr>
        <p:spPr>
          <a:xfrm>
            <a:off x="380520" y="1294920"/>
            <a:ext cx="8153640" cy="517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Males are more likely to ______ these disorders since they only have _______ copy of the ________ chromosome.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1" name="Slide Numb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539DB-BEF3-48A8-B7C4-7CEE8A5DAB3A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62" name="Title 1" descr=""/>
          <p:cNvPicPr/>
          <p:nvPr/>
        </p:nvPicPr>
        <p:blipFill>
          <a:blip r:embed="rId1"/>
          <a:stretch/>
        </p:blipFill>
        <p:spPr>
          <a:xfrm>
            <a:off x="146160" y="176040"/>
            <a:ext cx="7778520" cy="13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6T17:47:46Z</dcterms:created>
  <dc:creator>Brian</dc:creator>
  <dc:description/>
  <dc:language>en-US</dc:language>
  <cp:lastModifiedBy>Tien, Jean (EDU)</cp:lastModifiedBy>
  <cp:lastPrinted>2012-10-01T12:15:57Z</cp:lastPrinted>
  <dcterms:modified xsi:type="dcterms:W3CDTF">2017-10-04T13:44:40Z</dcterms:modified>
  <cp:revision>11</cp:revision>
  <dc:subject/>
  <dc:title>Pedigrees</dc:title>
</cp:coreProperties>
</file>