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A116-C58D-45E3-B8DA-51F02591AFBD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1D10-13DB-4C90-B0BB-D37919673FE7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9C04-DAD2-40F6-951C-E666A70A72FE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D59-09F0-49F1-97A7-864024D39B1D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3C0-4D07-4A15-8527-844FDBA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40F-C21A-4290-BD7B-059975E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D865B-07F0-4DD8-AD76-74E68840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9AAFA-BD7A-4296-8F06-785262DC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CA0C5-266A-4C6C-BF4F-99F33118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339CB-EB77-46A6-8BC2-AFEC26E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539EB-D0AA-4184-8EC5-0EA56D9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70AA9-7857-4B6E-9339-C56727B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0140A-8D61-413C-B6CD-E57B0C4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B07FB-269A-40A4-8AC9-F7E11F58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023B2-D37F-4A9D-8FA2-A44E44B5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9ED-9769-4294-8F35-D0FAE9E3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960-9F84-4468-BB09-CFE18295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9CF1-AFF7-4DA0-829C-628A3EF3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D5D-86D5-4BDE-97A9-FD2A0E8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3D1-2E78-47DE-A803-D6978036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8734-B930-481E-9FFF-28798969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BA34-B257-496C-8D7F-0D84C297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0BC3-CE49-4266-B25D-9B923AE1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A581-B82E-446E-AA4C-88530E9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B75-215E-423A-A7D3-EF204085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597-F8AE-4566-B6F1-44D2303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14F-3507-42DD-BC73-7523EF17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D1C1-81BB-4707-BBD9-723B429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2C39-9F6C-47DA-B856-F1F69932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0785-7751-4F76-84D9-2FBB138F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00A0-D237-4F67-8F76-217CD5CE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15EF-BDB2-4365-85B6-0C12BE78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709A-5BBE-48D9-BDDC-D5523E08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9F52-F1E9-4EC5-AA8A-0BA6691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11A3-3CC0-411E-8BCC-477C79E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987-10E1-4001-9CD5-5A01B83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B472-7AE4-4F4E-924A-87D36943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F7B1-382A-46D3-8574-C7769C7D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D993-14FF-4BD9-A0AD-2EDBFD3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3ACA-729D-438B-9855-281AA23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4AAC-9818-41E3-9AA7-66753F6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6CD6-0B9D-403A-BE58-7133BAAE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BDD9-24F2-4541-B7FA-8CCA32EF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AD14-4C34-4E99-86AB-7C7456DD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F6A7-9BC8-4ABD-B4FA-FC69440B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0F10-A2DF-4AC0-9ACA-1AD7A765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23E-E0A1-440C-BB78-A43C4FD4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666C-2AA1-41FF-BFE5-25D49D4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12AE-C427-4CEA-9A00-FF0E64E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5680-49BA-448A-BB82-49DFD83B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0BC2-94B8-4BB7-A6C9-34A08DA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F712-5525-423A-8581-0EA2D7E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75FF-DDA5-4301-82D1-0BBB1AB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E637-FE73-448F-82C1-6722DF1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849E-ADEE-432F-96A3-2CC752E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AF0A-B8A5-4C63-B731-B39500C5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B545-7356-4E6C-A7F7-5B792E8D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B99-0D84-4D7B-9368-151D741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2933-383B-4646-A67A-0739337A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E521C-CF1C-4A7C-8BEF-0FDCB2C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8DB4-0C3A-48D8-B945-B1119C31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E041-F8E8-435C-AE1D-D659E444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5183-FEBF-4B9A-B6F5-76675DA4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F59F-1E01-4F21-89E0-134C6561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A579-381F-421E-819F-D748EFD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C635-5CA1-4287-A608-894288D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D62D2-BEC6-4912-8690-36BF77A9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C027-BBE8-4EB8-9B6D-445DF0E5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B84-5241-465D-AA77-4698231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E6DEE-A4AC-4699-B1EE-CDB56D8C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8DD3-2F8C-4533-A618-71F5CA17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3B0C-6EC5-4DB9-9230-CEED383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A46A-C3E5-475D-8F81-D33BC89C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9718-56AD-4B79-A8F5-FCA66C8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468D-063D-4883-A3B0-BA054223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21594-AA2F-4B13-87CE-F0BF2E9E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72598-C873-4BE9-9B20-1E07E63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BA7F-FC14-4D9A-921A-0DF1D29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A88A2-5ECA-41EA-B490-EB11999C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B8F-0480-4A2B-8E6F-018C11A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DF4F-BF1B-4EE8-8154-0139216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0CE7-C752-46E5-A001-F5D743EB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B69C-4D2D-4E79-B0CF-03592949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8FE2-013E-415E-BED6-4F81B9EA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8C3BF-C675-4EAA-B676-6595E363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B85B-C892-40D3-9A1C-7573CE7C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1420-60E1-420E-B244-4088EA85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71B1B-9A4B-4A58-8FDE-420FDB9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54644-062D-4FE3-808C-0925C97E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F7080-4E87-4EE3-A81A-B6F1BB6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942-CEB3-4F27-BE49-D83547A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05D81-41BD-4151-B2F5-47904535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A645-7828-4289-98C1-6616598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0A27-8EBA-4CBD-982E-8844B3AD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C205D-4A9A-409C-BEF2-8175A44C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B3E34-54AB-457D-B0A7-D7208108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42ECD-C0DA-447A-BF5B-A3316CB8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AC22-E3E3-45D3-8EC9-3665922B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9F9B4-5AE5-4644-A922-4BB0A293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AA7F9-A6F9-4473-B800-B0CB952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841D8-2083-4E28-8460-DCCDE40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24D-EAB2-41D1-B3CA-0F2A9DC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447D4-CB49-47AF-BAF8-4214C7C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916FA-494D-4238-B3F0-1335DFF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D17F-DA58-4F19-B5D3-8368A80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E7487-D1F8-4E97-AA87-FA29AFA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F171B-0382-4838-8F8D-7A0A43D0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87F6E-14FA-43DB-A081-9A412F5A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F3A51-1117-41DB-A5AB-4A312E4B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BA331-ADB8-43CB-8F4E-378A27A9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36083-1EE0-4D8C-9ABC-411BE2DD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08DB6-6586-4FF1-86E5-CD304DA3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4735-B234-448C-969F-DAF1F95CE5A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196-5BB7-4F14-A0C1-84190CA36B95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B745-467B-4E8A-8E2E-E68351E2D5C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1E9-0FF5-411E-A6CD-BF0251546C2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49D-9FF8-43D7-A0E0-02508EAE0B67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75EF-4C88-43A0-8C46-F59952CB397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29D1-3DF5-4D9B-8546-F43EDBBB59C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AF3-51C4-41FB-9896-524C128AB7E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CFF-2209-4F4A-BD7E-40E04007D1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diagram of an individual’s ancestors used in human genetics to analyze the Mendelian inheritance of a certain trait; also used for selective breeding of plants and animal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D76D-7022-4360-B43A-181634ACD72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380-655D-4539-8EE5-03F3085D0DD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1530360" y="155736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054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Arial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49D-D162-4B43-AE56-D681252385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659-522D-45D8-9755-30D7FD349B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73F5-4824-4D17-AE3C-73C1E24011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Tien, Jean (EDU)</cp:lastModifiedBy>
  <cp:lastPrinted>2012-10-01T12:15:57Z</cp:lastPrinted>
  <dcterms:modified xsi:type="dcterms:W3CDTF">2017-10-04T13:44:40Z</dcterms:modified>
  <cp:revision>11</cp:revision>
  <dc:subject/>
  <dc:title>Pedigrees</dc:title>
</cp:coreProperties>
</file>