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20A-9B3A-4B51-BD61-D2CD2D8AABF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F3AE-F3BC-42B6-ACC0-BD44D827ED3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C6B-AB9E-45B3-AAC0-C4C8DD04B5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666B-9820-44A1-84E0-8D750433438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2D5-9B72-42E1-ABAF-DD55A793E04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964-DD9E-4889-8DC5-BDCB0D6259A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134-5D28-4C9A-AD64-433C5D8F16B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F13A-D1E9-4CA9-A0CE-AE8DE1AF775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4EB5-46DA-453A-8769-1D8DFBF1117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D93-0672-404B-BB4D-62F3D05A22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DF03-6FA6-4986-B46A-53EC11C0165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8806-D3F8-482A-A0CB-CE29D433BEB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58C-B935-4AED-8ECA-99A3165AFB6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0B2-C95B-4959-BC11-726C603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10C-C848-4619-9477-B7ED0E2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03E-3718-4E8F-9C49-DC4167BE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FDC-FB18-4E0C-8B39-BAD2B7B9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9C20-1AD8-4768-BA28-5FC38C2E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D59-5751-4725-AB5E-72D75BB7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F1E7-A233-475F-B1B8-992944E5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FBE-6C4F-45E3-A041-FD8C344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19E-7F32-4F00-8B75-E57BB3BE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FE42-A92D-4B3D-BA10-425C7DD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0F0-DEF8-4638-BAF4-FDC2F19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B0B-172D-4B22-8EB6-DEAF11E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266C-BF1C-4EA9-80D6-E450F3F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D5C-9E27-44BA-B4DF-47B1031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2EB1-DB17-4D51-A7C0-D573B979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E20A-F005-4654-ABB9-1FB6B0AF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FEA6-9BFF-4BBC-A441-CDC1B12B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FA72-9F41-442D-82A9-B289ECB9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C0FC-A9DA-404D-9B8A-A70EAAB3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CD10-1D7E-48E1-9DCC-BDF4E7F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7E7A-43DC-43DA-B617-CD3FB361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ED07-0B0F-480A-A907-61B140C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A65-2789-48D7-917F-D8545AA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6993-F1B6-48A5-A2C3-001C616F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222D-A8A5-4CC8-ACFD-A5D5125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7B2F-328D-44F5-B54D-9D4B8AA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A1AC-A470-4315-8BA6-9F02379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D884-4CB2-4456-913A-0BC77D2E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5261-4D64-48BF-814F-76BE80D0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29CF-1C90-4DB0-B65A-C01B9C1C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4907-4087-46D9-8750-C0C61FA2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574B-D0FF-4D25-AF6D-1C51B40A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30BA-1546-48CC-AAED-55DBCDD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BF4-EFF5-44C1-A9C5-CBF5DC8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65D9-0358-4836-A666-8BBE9C2D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DBA3-E644-4446-BAA0-E93916FE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2ED8-0C11-48C3-9C2E-9B7602C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66A7-F1A5-4B6D-95C4-C7B6727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D196-C209-4FA5-B3A0-E377639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A27D-08A9-4924-9E33-4CEBD09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AA31-F807-4B42-8B81-490C1FE1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846D-A59E-44F1-BDE7-1F474CDA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2CB4-7BB1-44AC-BBE2-B651EBC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2603-0728-4F1D-A0B2-325ECFEA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C13-32D1-43BB-8F90-50C0B67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D1A5-EA10-429F-955D-74A94B99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DA70F-CCB9-4A72-A179-48FF744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F71D-43A9-4991-B040-0FA82008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11AE-17B3-48DF-B6E9-80387128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0E5C-9517-468E-8D12-BA36DE1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15B7-4193-453F-830A-6D30D529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90CE-E8CB-4549-A971-C12CE8B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F647-D5B7-4834-91B5-2F7E86B0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5FC59-6707-4563-8295-29BCD729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4B5A-DFD4-4D93-BCDE-D3752FEF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C7-48BC-4A28-8174-1391A17C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3512-31E8-401E-9039-908F960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AC36-A73A-4E62-A0CC-CAAEE65E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3E3D-37D5-4DB9-9D6A-B4103A3D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EE5B-CDE0-44D5-94AB-AEC8CF3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C63A-41D8-43EF-BC48-176C37B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74C7F-B6E8-45A3-99DC-1D4C3B4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C2B5-D493-4D84-934B-DDE9954D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0547-B7FC-4A23-8FA5-5970DEB6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4E87D-F8B2-44F8-BBB0-8679BAF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5ADE-D36B-4459-B6E0-6E5C2C8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98F-7DDB-4ADC-A95F-F6BE252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C767-F6DA-4932-9289-9023CEC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E04D-1C2F-4512-916A-EFC75E90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9586-3081-489B-B2D8-F63BFE04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893A-F987-40D0-BA8A-2EF6F1DC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6D6B-CDFB-440E-97A4-FB4AA563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95807-C331-47C3-A01D-B90DF326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2390-6D37-442C-B6EF-5AB7413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6DAAB-6400-42C3-8445-B04B9053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0ADA-6C9F-4A97-B63B-ECFAA13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00C5-2DBC-41CD-8B23-C709A93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CCE-ABD2-4A9C-99CF-32EE257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94AD0-E540-4F4C-BC0C-AF0F354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F3B1-4A1B-4B06-92EA-BB7E1CB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AC77-CD61-4C5D-A7DC-4A1B8B1F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E8B0-0AAD-4A16-8B8C-86AA4AF1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DC41-42CF-4972-8B3E-A954361F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F6E77-049E-4EF9-B155-EAF88C55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5BABC-0B75-4281-9D64-184842C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B598B-58AF-4431-9A74-30B590B4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CF2A-C2E6-476F-B1A9-4A5B151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E912E-1C6C-45CE-AA90-9909C0B6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4D4-BF48-4BAD-83CA-B22256E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C425-A8C6-45E2-BA3B-F061730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83EA-F359-4233-883D-C5D0B68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5D42-89CA-40D2-9D32-394468A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1859F-AD23-4AB3-94E0-33B337D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42E1F-9015-40D2-B53A-523AE0DD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7FDE-651D-43C4-AB94-64018833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C3BD-B675-4B61-8452-1D1C6573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604C-27A7-426F-815A-2AE384F7EC0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BC3D-DB55-4BC2-8015-359D425374E5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67B-830C-4F6F-83BB-A3A70505D3C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C7F-1CA9-4600-ADF2-556C907F400D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964-8BB4-4E98-913F-2CDEDE0ADCC5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554-4090-48ED-8C5B-FB611B0E50C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7A5-EB6B-4E2A-A1A5-97F11863BBD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E30-7828-43E6-993C-16BECE2F7361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qy8dk5iS1f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777520" cy="216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2141640" y="1989000"/>
            <a:ext cx="42307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2) </a:t>
            </a: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Chromosomal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errors that involve either whole chromosomes or a large part of the chromosomes which can result in the production of offspring with too few or too many chrom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non-disjunction disorders are an example of th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528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Inheriting Mutations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– occur in the gametes and thus are passed to the offsp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mutation will then become part of the offspring's genetic co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f the mutation is dominant then the phenotype will be seen; if it is recessive it will likely not be expressed for many gene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Sickle-Cell Anemia is an example of this, which is when there is not enough oxygen red blood cells no longer have a round shape but a C-shaped preventing them from moving through the blood vessel prop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Mutations can either occur by accident in nature or the by physical or chemical ag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Lucida Sans Unicode"/>
              </a:rPr>
              <a:t>Spontaneous mutations are a caused by incorrect copying of DNA during the replication of the chromosomes in either mitosis or mei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011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NA controls the activities of the cell (blueprint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und in the nucleu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nscribed into mRN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Rosalind Franklin – used a technique that used X-rays crystallography to photograph molecules and discovered that the pattern in a DNA molecule was a coil (helical) and that the diameter of a DNA was 2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Watson and Crick – used Franklin’s photographs and scale models to determine the structure of DNA (sugar-phosphate backbone and base pair centers); they also determined the base pair pattern – A with T and C with 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212760" y="30240"/>
            <a:ext cx="8486640" cy="124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360" y="981000"/>
            <a:ext cx="836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building blocks of DNA are nucleotides, which are composed of nitrogenous base, phosphate group, and a sugar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phosphate and sugar will form the backbone of the DNA molecul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side backbone two nucleotides are paired together, each nucleotide is linked to a backbon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 sequence of nitrogenous bases is important for protein synthesis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2CE9-1B2E-4A9C-81BD-F9ABAB0988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12600" y="-30240"/>
            <a:ext cx="847404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5292720" y="1123920"/>
            <a:ext cx="3708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DNA is made of TWO stran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They run ANTI-PARALLEL—in opposite directio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962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e nitrogen bases can either be purines, which has a double ring structure or pyrimidine, which has a single ring structu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denine &amp; Guan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urines (doubl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ymine and Cytosin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re Pyrimidin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(single ring structure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Picture 5" descr="DNA4"/>
          <p:cNvPicPr/>
          <p:nvPr/>
        </p:nvPicPr>
        <p:blipFill>
          <a:blip r:embed="rId1"/>
          <a:srcRect l="34480" t="27066" r="32763" b="51862"/>
          <a:stretch/>
        </p:blipFill>
        <p:spPr>
          <a:xfrm>
            <a:off x="3270240" y="1927080"/>
            <a:ext cx="1949400" cy="1413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1.gstatic.com/images?q=tbn:ANd9GcSGGUh6-jURei1oMNw6-IWtzlxlMs5Qi2mrWMBdkM66DU-6MN6H"/>
          <p:cNvPicPr/>
          <p:nvPr/>
        </p:nvPicPr>
        <p:blipFill>
          <a:blip r:embed="rId2"/>
          <a:stretch/>
        </p:blipFill>
        <p:spPr>
          <a:xfrm>
            <a:off x="5219640" y="3357720"/>
            <a:ext cx="35989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8920" y="260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pairs with thymine  (A-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pairs with guanine  (C-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known a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lementary base pai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6DE2-66EA-4397-A6CD-988A2D9553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5" descr="DNA4"/>
          <p:cNvPicPr/>
          <p:nvPr/>
        </p:nvPicPr>
        <p:blipFill>
          <a:blip r:embed="rId1"/>
          <a:stretch/>
        </p:blipFill>
        <p:spPr>
          <a:xfrm>
            <a:off x="3995640" y="149400"/>
            <a:ext cx="5038920" cy="59925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0" y="6118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www.youtube.com/watch?v=qy8dk5iS1f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Mutations are errors in D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have a positive, negative or no effect on an organ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They can be caused b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xposure to chemica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Errors in cell division (mit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Viruses/ Bacte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 Unicode"/>
              </a:rPr>
              <a:t>Negative mutations in cells which continue to replicate can lead to canc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DC0A-9794-4E66-8BA1-09422B0A42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Lucida Sans Unicode"/>
              </a:rPr>
              <a:t>1) Point Mutation </a:t>
            </a: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– Is a change in your nitrogenous base sequence by either base-pair substitutions, insertion and deletion that occurs when your DNA is being replicate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Lucida Sans Unicode"/>
              </a:rPr>
              <a:t>See Figure 2 on p. 23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16:30:27Z</dcterms:created>
  <dc:creator>Brian</dc:creator>
  <dc:description/>
  <dc:language>en-US</dc:language>
  <cp:lastModifiedBy>ntadmin</cp:lastModifiedBy>
  <cp:lastPrinted>2017-10-16T13:49:35Z</cp:lastPrinted>
  <dcterms:modified xsi:type="dcterms:W3CDTF">2017-10-16T13:54:57Z</dcterms:modified>
  <cp:revision>15</cp:revision>
  <dc:subject/>
  <dc:title>The Structure and History of DNA</dc:title>
</cp:coreProperties>
</file>