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A0CA-0622-4F8D-BFEC-88A472B85AB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A2B1-EA39-4285-A80E-52EAE3719D5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D66D-D080-4D44-8972-9018AE6920F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3B67-14AE-4178-92FB-530EFE3CFDE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865F-10EB-4D48-B732-AD0E0DFF037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600F-C8F3-4672-A867-D849396676E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23D1-B491-44B6-81DE-9A4582BFFB0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5E75-553D-42F8-9814-D6597BCEAE9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D42B-B355-4C32-BDCA-6DC88091F38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F5E8-8EF2-45B7-9181-3DB48BED16C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717C-B5D0-4387-B220-ECAEFB271AE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8D95-E169-47D9-9822-C59DA57E2F8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6C5A-5DE5-4189-A2FA-60322186EB0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B33-D861-4FA7-A50F-2AB48D92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811-6548-4437-9971-E69204E0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9CA-DE37-4639-9148-24EFEDC3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D16-52D0-48F9-8537-60DC1808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00DE-C60A-42B1-B7E6-3311DF54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B28B-7090-4EB8-9672-6676512D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B73F-1F96-4B99-AD5A-E5808A37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44FE-87BF-4B20-8640-31E48744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9D19-7544-4A8A-A9F1-7FDB0AA1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2C7E-9ED6-4AAA-9602-E6FB2E58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6704-BFB1-4653-9122-9DB4A2F8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AE9-61AA-4347-B5F8-6D5988E5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0348-AB6B-4ABB-B13C-87B79ACE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43B4-67E8-4E18-89B3-E49AB8D9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11C2-4980-4630-AFD8-5940233C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5DCB-A39A-4A48-99F4-97AABB9C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5EB1-6581-4B42-84ED-6B0CACF2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F819A-445A-4D46-B943-1656AD41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D0F26-B177-4F54-BADD-D4155EA4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976C-0EE3-490A-893D-8AAF09F3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F098-5897-4184-865E-89C19A7D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009D-402A-49C0-B5F9-458AD251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423-81E9-4202-93CF-B3EBD0DE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13DD-8A79-42DA-AF4E-FD6417EF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7FD8-8FED-4142-A9ED-F0399367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BD025-D72F-4404-B52D-1F342D64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063C-5921-442E-A7C0-52D2C1E2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F9DA-8264-46EA-9766-91D4D527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DD60-5851-470D-9DB0-B8011498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A1D5-5BE7-4650-AC8C-055719F4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1B3E3-3CFE-4CB7-9C52-B3A6521B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7254-3371-4DA3-AC76-8A092638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2950E-9440-4950-ABE9-CB0A4DC7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831-3C6C-4B5D-9CB4-69357102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A84E9-4514-41F3-8015-3AD67135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81C52-D856-45EB-B93F-8AFA5CAC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9000F-D289-4540-99DE-AE728D8A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1A77-37D5-429A-A383-EC620D89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55708-D5CC-448F-A0B1-169572F2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48918-421A-4FE2-B697-A26D3021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0E363-38F2-4471-B53F-B6AE4EC5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0D8C7-47EE-4393-8EDC-2CF7F9CC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DC39C-94E6-477D-A810-9B498731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45167-3C4E-4873-AFF3-AB4DDCFE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153-7B88-4E1B-8864-7EB8C8DF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75A83-C9C0-482E-897B-CC6F540C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83CD2-48EA-4365-BEB2-1228879C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E1106-7235-4E21-8C03-A8B1F0D7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D8923-B963-4D9B-B7D1-EF8DDAAB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E37AD-DD8B-4959-8EBC-E17DBF4C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6FE26-D69B-41CE-813B-58E6F470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1B96C-7C3D-402F-9E9B-EBDE2CAF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35F5D-20CA-4E7B-9316-5F23A48B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B8C98-10BB-4655-BAD3-E2AF73E2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6957E-2423-4B28-AEB8-6F7D7302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C94-3D18-4EE8-8D34-A82835BD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96E04-4B47-4EAB-9FF6-8A44ABB7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DC578-2ED9-4D37-8547-FDCEE48A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D435A-C9D7-4D50-AC01-2A4CBBD4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55236-7810-449B-9F13-66230D48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697D3-5F35-46FA-AA2A-6CBF677B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DBEFD-0AE4-440F-A9BC-1B7C65F7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65E5F-0562-4E57-A414-FCE0CD6A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6B4E4-6A89-42AE-90EC-4D6A5680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79E85-1B85-4418-AFC8-39AA7F6A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AF5DD-28B3-482B-BABC-99EBB7C4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B2E-1B6F-49B1-A987-4978F755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D6D06-1650-4B03-9D16-4FF0350F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6ABDF-7B12-4FD2-90A4-D0668B47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398A0-35CE-4321-B0D7-C79A9C23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6E2C7-58AB-485B-81B5-EF7EAEB1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8A857-F07D-4045-8E30-54D32B26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0EFC3-5A31-4BC8-9A65-B9C58B87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98836-3FC2-4401-90DC-3E666A48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22154-6B26-4C9B-8FBA-B1DFC5E3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9D491-04AB-4F10-98E7-D39C335D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851E1-8654-4B80-8AA3-F3A931A5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B09-ABB5-43E4-8792-4C32B33C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1B504-0E70-40EE-A5E5-CA902B9C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751CE-8BD2-49C6-841F-166A1DCB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4195B-D20B-45A8-A9E8-5B2A671A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5AEF4-7F39-4409-BBA1-930AC7C5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7D1D4-9EB8-4947-88B1-5E30C18F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7F905-FEE6-4D5B-9201-34A06B60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4AF86-9426-41CC-9822-2030875E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74A78-B11D-4082-8CED-074609BF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C4457-5A8C-4C12-A3CB-944512AC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19E6B-1DD8-49B2-B31A-F84194F9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EE0-841D-4278-A1AE-4E04BAA5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E3EB4-4162-48C8-8A1C-3BF63874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1BD31-C178-4988-A7C5-CD12D6D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E18F4-6ABF-41E1-8096-89342D5B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4AF4D-BCD9-4C35-B4AF-B7E01ACE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C90FA-8FA6-4388-AF1F-97370A02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0BAA4-BACD-42F5-8ADA-44E41443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19F0C-C050-4206-8BA8-848BAE70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6ADB-AC78-4A43-9A76-63F923317DD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403F-94B5-44A7-BE7B-C8E8DC360B7B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D700-9CD1-4ABC-93AE-BA6F78E3D79B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E2F2-8BC9-4C27-A479-CD5B4F326723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2F34-38C8-4C0C-82EA-13742A6C861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3A74-31AD-49FD-9C10-373A96985AFF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EF64-40D4-4D08-A3EB-C7521E7202C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EA99-6809-4D4A-BA6F-4CFD74EC2130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outube.com/watch?v=qy8dk5iS1f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777520" cy="216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2141640" y="1989000"/>
            <a:ext cx="423072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2) </a:t>
            </a:r>
            <a:r>
              <a:rPr b="1" lang="en-CA" sz="3600" spc="-1" strike="noStrike">
                <a:solidFill>
                  <a:srgbClr val="000000"/>
                </a:solidFill>
                <a:latin typeface="Lucida Sans Unicode"/>
              </a:rPr>
              <a:t>Chromosomal Mutation </a:t>
            </a: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– errors that involve either whole chromosomes or a large part of the chromosomes which can result in the production of offspring with too few or too many chrom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non-disjunction disorders are an example of th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528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3)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Inheriting Mutations 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– occur in the gametes and thus are passed to the offsp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mutation will then become part of the offspring's genetic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f the mutation is dominant then the phenotype will be seen; if it is recessive it will likely not be expressed for many gener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Sickle-Cell Anemia is an example of this, which is when there is not enough oxygen red blood cells no longer have a round shape but a C-shaped preventing them from moving through the blood vessel prope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Mutations can either occur by accident in nature or the by physical or chemical ag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Spontaneous mutations are a caused by incorrect copying of DNA during the replication of the chromosomes in either mitosis or mei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6011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DNA controls the activities of the cell (blueprint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und in the nucleu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ranscribed into mRN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Rosalind Franklin – used a technique that used X-rays crystallography to photograph molecules and discovered that the pattern in a DNA molecule was a coil (helical) and that the diameter of a DNA was 2n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atson and Crick – used Franklin’s photographs and scale models to determine the structure of DNA (sugar-phosphate backbone and base pair centers); they also determined the base pair pattern – A with T and C with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212760" y="30240"/>
            <a:ext cx="8486640" cy="12445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68360" y="981000"/>
            <a:ext cx="836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building blocks of DNA are nucleotides, which are composed of nitrogenous base, phosphate group, and a sugar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phosphate and sugar will form the backbone of the DNA molecul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side backbone two nucleotides are paired together, each nucleotide is linked to a backbon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sequence of nitrogenous bases is important for protein synthesi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D975-92A9-40F1-84E0-AF20CC41A8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-12600" y="-30240"/>
            <a:ext cx="8474040" cy="11638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"/>
          <p:cNvSpPr/>
          <p:nvPr/>
        </p:nvSpPr>
        <p:spPr>
          <a:xfrm>
            <a:off x="5292720" y="1123920"/>
            <a:ext cx="3708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DNA is made of TWO strand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y run ANTI-PARALLEL—in opposite direction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9626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e nitrogen bases can either be purines, which has a double ring structure or pyrimidine, which has a single ring structur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denine &amp; Guanin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re purines (doubl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ring structure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ymine and Cytosin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re Pyrimidine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single ring structure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5" descr="DNA4"/>
          <p:cNvPicPr/>
          <p:nvPr/>
        </p:nvPicPr>
        <p:blipFill>
          <a:blip r:embed="rId1"/>
          <a:srcRect l="34480" t="27066" r="32763" b="51862"/>
          <a:stretch/>
        </p:blipFill>
        <p:spPr>
          <a:xfrm>
            <a:off x="3270240" y="1927080"/>
            <a:ext cx="1949400" cy="1413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t1.gstatic.com/images?q=tbn:ANd9GcSGGUh6-jURei1oMNw6-IWtzlxlMs5Qi2mrWMBdkM66DU-6MN6H"/>
          <p:cNvPicPr/>
          <p:nvPr/>
        </p:nvPicPr>
        <p:blipFill>
          <a:blip r:embed="rId2"/>
          <a:stretch/>
        </p:blipFill>
        <p:spPr>
          <a:xfrm>
            <a:off x="5219640" y="3357720"/>
            <a:ext cx="359892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78920" y="260280"/>
            <a:ext cx="381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enine pairs with thymine  (A-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pairs with guanine  (C-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known a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plementary base pai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5037-F9A3-4944-9C23-C745D99B50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5" descr="DNA4"/>
          <p:cNvPicPr/>
          <p:nvPr/>
        </p:nvPicPr>
        <p:blipFill>
          <a:blip r:embed="rId1"/>
          <a:stretch/>
        </p:blipFill>
        <p:spPr>
          <a:xfrm>
            <a:off x="3995640" y="149400"/>
            <a:ext cx="5038920" cy="59925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/>
          <p:cNvSpPr/>
          <p:nvPr/>
        </p:nvSpPr>
        <p:spPr>
          <a:xfrm>
            <a:off x="0" y="6118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http://www.youtube.com/watch?v=qy8dk5iS1f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6840" y="1295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Mutations are errors in D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hey can have a positive, negative or no effect on an organ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hey can be caused b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Exposure to chemica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Errors in cell division (mit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Viruses/ Bacte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Negative mutations in cells which continue to replicate can lead to canc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4189-D584-430E-B18D-4EBD4182A8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Lucida Sans Unicode"/>
              </a:rPr>
              <a:t>1) Point Mutation </a:t>
            </a: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– Is a change in your nitrogenous base sequence by either base-pair substitutions, insertion and deletion that occurs when your DNA is being replicate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See Figure 2 on p. 23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16:30:27Z</dcterms:created>
  <dc:creator>Brian</dc:creator>
  <dc:description/>
  <dc:language>en-US</dc:language>
  <cp:lastModifiedBy>ntadmin</cp:lastModifiedBy>
  <cp:lastPrinted>2017-10-16T13:49:35Z</cp:lastPrinted>
  <dcterms:modified xsi:type="dcterms:W3CDTF">2017-10-16T13:54:57Z</dcterms:modified>
  <cp:revision>15</cp:revision>
  <dc:subject/>
  <dc:title>The Structure and History of DNA</dc:title>
</cp:coreProperties>
</file>