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F8AE-3197-4F8B-B4DE-25E93A42F54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89DE-4D29-4396-A377-6E88470A89A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D551-CDD9-4A8A-A537-6847E2A6718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5056-0354-419F-B0E5-6D81FF33B96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7D17-7A74-4A56-9E7B-ACE942D2352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A36A-7B79-474F-844A-8ACEFC63162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9D91-1C0F-4F83-8EEB-4D0EA9DB10A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60FE-4250-4666-BF35-0EC1EBA0C9B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9A00-43FE-4B27-A7CF-132BB085F61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873F-6667-48CA-8534-491FFD9D09A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0C1B-3FD3-402A-83D0-8DDD494CBBB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5B1F-62EF-4FEB-AB45-E7BD91EEE46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407C-2D2F-4EE1-B97B-22B5B5204A4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6EBC-C368-4951-A6E2-521374A1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EBE-A8E8-4E31-A4DF-73F459C7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1D4D-6ABF-4247-92C4-0256D4A3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6382-6C43-47BB-BCD8-88DCC458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5BCD-B6B7-44CF-B5BB-B9A9DAD8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7D34-9B36-4FC4-8D8A-02CA8922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6D95-8F15-491E-8F28-BBD49D11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9A83-E3CB-4FBE-A1E2-678C2944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D17E-AC78-469D-8BAC-7BAF9589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F23A-D466-469C-AB2D-BE12BE79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9054-0894-4AA7-BC41-081A3826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DADA-457A-424D-88CB-F0F0D3AE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6D65-E87E-4858-A43D-77A04C3F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E297-3FAA-426E-9811-14AA55BC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8A87-D563-4104-87C4-9D436BE6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5179-2A68-4193-989E-41619533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A230-2769-42C4-AE7D-D64BF5BA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F4B5F-A7AB-49AD-AA42-12F9FFD0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1261E-6945-4855-90E7-C42FAFD8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4A2AB-5ED2-4685-AEC4-A44A0EEF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91BB1-26F8-4CAF-99A8-D7990096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C4AA9-E64B-47D7-99AD-22568C51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7F6-495D-45C7-A74E-A2A57CDA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F823B-E6CC-4737-BBA5-C2A11C39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0FD2C-F480-4FF8-947F-70B80581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E6AD2-F0CB-4366-8735-7328AD68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7D7EF-8B83-4718-9A6C-5718F721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CA20C-AB37-4265-843E-9C530DB5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47274-8124-4CE7-B753-8074C706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065D8-FABF-41B7-A672-A616380A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D5CB7-D9DF-40E7-85BA-7332058B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367AD-1DF3-4C0E-B21E-3F4CD92F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6EC59-936A-4868-AC01-80DFE500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8D7-50B7-424C-A806-FF6B2AD8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5DBE2-5DB0-4A06-BB6C-E3B477A7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BF87C-0CEF-4A6D-BA23-2C8FE0C2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08E47-FB24-4ACD-B320-BE699049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33C46-41D9-4D32-B02E-D5914066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FC2BB-0705-47BA-886F-B9618427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69620-9596-405E-B8F3-2E7B335F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C08BD-3A3D-45A0-8854-BCB15450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90139-2BFB-4979-A994-BEE738F2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CF638-35AE-44CD-9E9F-007C5065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FA078-C25D-4BB7-82C0-FEEC382C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4CE-97C2-4343-969E-6D955F75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CC19B-1819-43B1-AAFF-B3707975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5AD24-F039-41FD-B3FF-07EFFA51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D2C33-4A4D-4CF7-8E33-C0FBFF74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FC1AA-0D6F-4249-9E10-97749B19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4640A-966F-448B-8E49-2EEED5FF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994D7-EE2C-470E-979A-0C2FB6FD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57105-AD31-42D6-A97D-64AAF3C1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76AD5-7215-4833-A439-E086748F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B1AFF-C90E-4627-A703-E976BA31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64214-AB27-4B1F-92A1-46C367BB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505-1540-4ED7-8960-BC8F0353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34E23-62C8-4486-8C73-3703A507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C59F1-CE8F-44E1-9A83-D58EFA24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55933-D21B-4777-867E-9AB6E42A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64071-9A5A-4F7D-A85A-9658DAE1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2F192-7EBE-4E7E-81EB-1A6AB6EA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EFF7A-20BE-4491-91B1-0505EFF3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F059B-1DBA-4C2C-8339-A504923C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2A593-F774-47EB-8361-16CA0D84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CFE19-291E-4CAC-A6F0-1F132530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2B642-F9B9-4156-8627-956071B5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AAEA-1CCB-4D37-91DD-A3881A9B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05695-FD90-40EF-9C02-C84E61CF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39C6E-9E6B-40DA-83A7-2E425D88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1C053-5655-4046-9C5A-44AC9369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6DAA4-CE93-4A95-833D-1A8A37BF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059E0-B484-492E-92C3-A01E7249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3A352-0CB5-490B-8F49-8CB18EAD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03CAC-F55F-4C18-99AB-BFF17AD7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B824C-D679-4B22-A9DA-514FEB91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61E9E-CFA8-4369-8A83-B3F28749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78C00-4126-4385-BB18-B93503BB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063-8C09-4DD2-AE9E-441EFFB0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953E3-F375-4DE6-82A0-6C32D4C6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238CD-BCB6-4E70-B324-743AE98E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63541-1419-443B-BA03-E8CDB1CE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E5ED8-4248-4EEF-9D01-5384B2C8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1C220-4D05-48C1-A5CE-9C4BEF8D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70052-E15C-4841-BB90-E70EA497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AF638-5EB9-484D-A9E1-56A728E2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51B49-3327-4E8C-8390-6246870D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A9A37-056D-4CBF-87F9-31760CF3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ED510-7B3C-433B-A2B6-B41DED72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5808-B05A-4AE1-9E3C-F317134B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6304E-690C-4A00-B343-7E4179D0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094B3-6166-4135-80CE-1669D135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F7761-995A-4E73-A400-159A5589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7F57A-A29A-4F66-B096-83EF6F1E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CED33-81B9-491B-BA7F-F4321723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54B79-AED4-44CD-B1D4-EB5700DC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57F6D-13C2-40B1-99C6-CB9DF155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B2C7-ACF2-43A7-A142-525FF8785504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12EF-77FF-431D-BB57-7AFF6D02DE35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09F7-1561-4F51-9236-158E655D8E11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84AC-7F59-4E79-9BFE-A32F6DB4EB92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A2E0-C12D-4B22-9D04-245364B47361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48FC-B581-46A6-8918-E634BFCF6A7C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B764-4C2A-4BC8-99AA-DDA39015EDBC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59F5-51FC-4A66-85C9-5C566273B649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youtube.com/watch?v=qy8dk5iS1f0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777520" cy="2163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2141640" y="1989000"/>
            <a:ext cx="423072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2) </a:t>
            </a:r>
            <a:r>
              <a:rPr b="1" lang="en-CA" sz="3600" spc="-1" strike="noStrike">
                <a:solidFill>
                  <a:srgbClr val="000000"/>
                </a:solidFill>
                <a:latin typeface="Lucida Sans Unicode"/>
              </a:rPr>
              <a:t>Chromosomal Mutation </a:t>
            </a: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– errors that involve either whole chromosomes or a large part of the chromosomes which can result in the production of offspring with too few or too many chrom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non-disjunction disorders are an example of th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9528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3) </a:t>
            </a:r>
            <a:r>
              <a:rPr b="1" lang="en-CA" sz="2700" spc="-1" strike="noStrike">
                <a:solidFill>
                  <a:srgbClr val="000000"/>
                </a:solidFill>
                <a:latin typeface="Lucida Sans Unicode"/>
              </a:rPr>
              <a:t>Inheriting Mutations </a:t>
            </a: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– occur in the gametes and thus are passed to the offsp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he mutation will then become part of the offspring's genetic co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If the mutation is dominant then the phenotype will be seen; if it is recessive it will likely not be expressed for many gener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Sickle-Cell Anemia is an example of this, which is when there is not enough oxygen red blood cells no longer have a round shape but a C-shaped preventing them from moving through the blood vessel prope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Lucida Sans Unicode"/>
              </a:rPr>
              <a:t>Mutations can either occur by accident in nature or the by physical or chemical age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Lucida Sans Unicode"/>
              </a:rPr>
              <a:t>Spontaneous mutations are a caused by incorrect copying of DNA during the replication of the chromosomes in either mitosis or meio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6011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DNA controls the activities of the cell (blueprints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ound in the nucleu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ranscribed into mRN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Rosalind Franklin – used a technique that used X-rays crystallography to photograph molecules and discovered that the pattern in a DNA molecule was a coil (helical) and that the diameter of a DNA was 2n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atson and Crick – used Franklin’s photographs and scale models to determine the structure of DNA (sugar-phosphate backbone and base pair centers); they also determined the base pair pattern – A with T and C with 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212760" y="30240"/>
            <a:ext cx="8486640" cy="12445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68360" y="981000"/>
            <a:ext cx="836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 building blocks of DNA are nucleotides, which are composed of nitrogenous base, phosphate group, and a sugar.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 phosphate and sugar will form the backbone of the DNA molecule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side backbone two nucleotides are paired together, each nucleotide is linked to a backbon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 sequence of nitrogenous bases is important for protein synthesis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F6E8-10E6-405C-A619-74DC3A8DE2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-12600" y="-30240"/>
            <a:ext cx="8474040" cy="11638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"/>
          <p:cNvSpPr/>
          <p:nvPr/>
        </p:nvSpPr>
        <p:spPr>
          <a:xfrm>
            <a:off x="5292720" y="1123920"/>
            <a:ext cx="37083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DNA is made of TWO strand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y run ANTI-PARALLEL—in opposite direction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8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49626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e nitrogen bases can either be purines, which has a double ring structure or pyrimidine, which has a single ring structure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denine &amp; Guanin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re purines (doubl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ring structure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ymine and Cytosin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re Pyrimidines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single ring structure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Picture 5" descr="DNA4"/>
          <p:cNvPicPr/>
          <p:nvPr/>
        </p:nvPicPr>
        <p:blipFill>
          <a:blip r:embed="rId1"/>
          <a:srcRect l="34480" t="27066" r="32763" b="51862"/>
          <a:stretch/>
        </p:blipFill>
        <p:spPr>
          <a:xfrm>
            <a:off x="3270240" y="1927080"/>
            <a:ext cx="1949400" cy="1413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t1.gstatic.com/images?q=tbn:ANd9GcSGGUh6-jURei1oMNw6-IWtzlxlMs5Qi2mrWMBdkM66DU-6MN6H"/>
          <p:cNvPicPr/>
          <p:nvPr/>
        </p:nvPicPr>
        <p:blipFill>
          <a:blip r:embed="rId2"/>
          <a:stretch/>
        </p:blipFill>
        <p:spPr>
          <a:xfrm>
            <a:off x="5219640" y="3357720"/>
            <a:ext cx="359892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78920" y="260280"/>
            <a:ext cx="381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enine pairs with thymine  (A-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ytosine pairs with guanine  (C-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known a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mplementary base pai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AE5D-F907-42DD-BA48-78B958E1E3A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5" descr="DNA4"/>
          <p:cNvPicPr/>
          <p:nvPr/>
        </p:nvPicPr>
        <p:blipFill>
          <a:blip r:embed="rId1"/>
          <a:stretch/>
        </p:blipFill>
        <p:spPr>
          <a:xfrm>
            <a:off x="3995640" y="149400"/>
            <a:ext cx="5038920" cy="599256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4"/>
          <p:cNvSpPr/>
          <p:nvPr/>
        </p:nvSpPr>
        <p:spPr>
          <a:xfrm>
            <a:off x="0" y="6118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8119"/>
                </a:solidFill>
                <a:uFillTx/>
                <a:latin typeface="Calibri"/>
                <a:hlinkClick r:id="rId2"/>
              </a:rPr>
              <a:t>http://www.youtube.com/watch?v=qy8dk5iS1f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6840" y="1295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Mutations are errors in D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They can have a positive, negative or no effect on an organis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They can be caused by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Exposure to chemical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Errors in cell division (mitosi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Viruses/ Bacte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Negative mutations in cells which continue to replicate can lead to canc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0847-7562-40E9-A63F-A80DAE3358B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Lucida Sans Unicode"/>
              </a:rPr>
              <a:t>1) Point Mutation </a:t>
            </a: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– Is a change in your nitrogenous base sequence by either base-pair substitutions, insertion and deletion that occurs when your DNA is being replicate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See Figure 2 on p. 23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8T16:30:27Z</dcterms:created>
  <dc:creator>Brian</dc:creator>
  <dc:description/>
  <dc:language>en-US</dc:language>
  <cp:lastModifiedBy>ntadmin</cp:lastModifiedBy>
  <cp:lastPrinted>2017-10-16T13:49:35Z</cp:lastPrinted>
  <dcterms:modified xsi:type="dcterms:W3CDTF">2017-10-16T13:54:57Z</dcterms:modified>
  <cp:revision>15</cp:revision>
  <dc:subject/>
  <dc:title>The Structure and History of DNA</dc:title>
</cp:coreProperties>
</file>