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7AE4-B1E9-4F91-B51D-6897644E6AE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004E-132A-4FD7-85BE-0A50091D33D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4DEA-DFD2-4A2C-BCED-51FEA99C974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7534-986B-4238-858F-DCA72F54B6C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6B09-E5FE-42E0-8BAC-78AF8E54D21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920A-B77F-4F08-BEFA-46C2A07F4D9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2FEA-CF06-401F-81A0-DE40A602383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4D5E-E47B-415F-8615-864D7C3F636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42B4-DA2B-4F43-852F-8D43D992A0B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5E60-44C0-4B42-AF3E-75F51C239AD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C91C-DAB5-49CB-A332-4B4A61567CC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F250-1360-409C-81E6-1DAADB000FE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2DCA-A715-4B5F-A758-AD4427B48CA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945-36B4-446E-BE0B-6B894DFD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EDE-68BB-4432-9B53-2322A4AC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027-5EF8-4B47-8E45-0ADCDF12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7EC-13AB-4B06-9910-DDCED498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37B5-9B54-4132-80C9-FABCA187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6649-6079-4B04-8E3F-56181711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ABBF-3518-4F22-914E-5E01F192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AE8D-2685-4BCF-9625-27B864FE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F0F7-039B-4A4C-89CC-EDE4D0D4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1B22-A3C8-4D50-AEC3-A4E0EF59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C3F2-4738-45A1-8B4D-FAD8D588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E40-1883-403F-97F8-CFE0640D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DAC2-7F6A-4E88-BE3C-ADD4FAAD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4E95-C1F9-41CC-B093-61528592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5A43-6ECC-4676-9BEE-3867EFED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3DD6-A268-4524-83FD-4439C4C1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3071-D8D5-442A-9659-4A1A1C29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AF9A9-85BE-4A9A-BF78-7E8677B3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93FC6-A461-45F9-AD1F-0D3B3312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EABD0-6BC8-4474-B0C8-CB4B64D3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527ED-18C8-488C-9885-D114F907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E5D14-23DB-4227-98A1-E874C6E7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5CE-A599-4D96-A262-7D0F0AD5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98342-DB95-4F8B-8DAB-EBC2DEE4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558A0-771A-42B3-8AB4-3AC3B7F9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95551-33F2-4089-BEB0-5A2F0089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2C9E7-7F3A-4B97-A435-5797C7E2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F2ECC-17C0-46F1-8C71-7D74FAE1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AF8EB-D2EE-42CA-B516-81699C55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00D9E-69AC-4F41-88EF-648AB633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580A1-5844-480A-90CD-C2D851E9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169F8-7374-4568-9CA4-9A56D6EB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5B217-6233-46A7-9C45-F99DE20F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05E-B931-4044-86BE-A14B7D0F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A7F68-2460-4653-9B94-568BDF1E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2E933-C8BC-4486-9807-C6948E14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BE4F4-3C4B-4A21-8672-E6E9C518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EE28F-9B31-43E5-9455-343E111C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39E26-0B72-42F9-9F7B-B63426E0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DE0F4-6877-4B79-B0D9-F0950D04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E9816-04E7-4455-B52C-40FA1300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AC439-3EB2-43AB-AF1B-17CE81F1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52E1F-60E2-4032-9E73-ED6FF43B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7D193-49D8-4BA0-B895-3E8F92C7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B6F-EFB1-45D9-82A2-AF772778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A645D-02EB-4545-AB1C-10846360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07E46-C802-44BB-A2DE-E733107F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CAB1F-41D9-4AD0-9C0D-AA659FC5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49E78-0C4C-4EEA-BC54-764B9B62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712A9-D664-460E-BB57-829C6B58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6695A-9140-4C66-9211-67EBF36C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A537E-9C93-44FC-9541-F84EAE6D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81000-C248-40CD-9FC2-EFDBB291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31210-5F28-4998-8FCA-D982F814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AE693-93C6-4850-83A5-8070E3EA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93E-6E77-4D17-A595-C9BBC515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CB5EB-E4E3-4010-85C7-36F86919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04DAA-E76C-4870-A763-E5B4B39A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64186-CC5A-4DA8-A2AD-E407C092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DDD7A-FC0F-4D32-880C-3AEAD45B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5AA12-5097-439A-8938-E7A02FBE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7BFE5-E2AC-478E-9323-8E32AF3B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43F80-524D-460C-9F0B-98B26294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7112E-DCEE-427E-B497-EDC22248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9D284-11CA-45D9-AB90-7F1B785C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D12B4-6782-4BE5-A424-5222111F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07B-E0A7-4C2E-869F-A4024F8A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722BC-D43B-4771-B406-DA29B3FA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40E05-B3F2-4D93-B230-C1C7DA03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35F72-229B-40A7-97F2-6A904B68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CAE12-DF72-4604-AB21-21104009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D5D5B-28DC-4AD1-A6CB-E9E0799C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960CC-6860-4F8E-A68C-17CCD0DA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C4874-7FF0-4ADA-9ACC-4B2C6351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9F1D1-04A7-495E-90B6-754552D5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ED4B0-FF07-46C0-A1CF-76B88163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C0E68-F8A5-4E04-80AB-04A19753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341-59BD-4F2B-BB6D-DC8242CC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DE57D-82CA-462B-8532-A4D993CE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CF7B8-B77E-4132-AFC7-7C39D7B4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7BB7C-D1CA-427B-B9A9-648B23B4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DAC76-2972-445F-AFD5-C9712B2E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58875-FC8D-4C41-9660-045F889B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EC77D-B103-42C6-BBC4-E9DBA84D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28D3E-4561-4B49-991D-EE87FC5B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4C304-9601-4795-8CBD-39C30FAE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F982A-2A4E-4BC9-AC44-9B98F01D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8466B-B198-4460-84B2-97E2185D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F8E-3B16-4877-B922-470B522F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53EA0-22BB-495C-9EAF-09EEF81B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71C47-9695-40D9-B7B5-9FB0E241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8E293-9A88-4656-BDB7-B92C6B09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C95A8-5CC6-4B5B-A6C9-324F411B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A5A71-C08E-4F3E-BB0E-35DED6D7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1C735-FB5E-46E3-B154-A2AB797A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A6C43-C034-48FF-8B46-0424FAC1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2FE0-73D0-4BD7-A112-2BD37FE6CA9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9E63-BE6A-412D-99BB-E21C858E4AED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91A3-5047-46E9-8E3A-7785B88ACD7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3706-C102-422A-B177-B727E830E6F1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E356-2F7C-4F43-9BDA-681D6298B818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DC6D-8E7F-4066-A131-5EA263A00879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5CBD-78A1-45E5-973F-24E4318C3DC4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F9B6-BE3D-499C-8AF4-CA28BD083F41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youtube.com/watch?v=qy8dk5iS1f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777520" cy="2163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2141640" y="1989000"/>
            <a:ext cx="423072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2) </a:t>
            </a:r>
            <a:r>
              <a:rPr b="1" lang="en-CA" sz="3600" spc="-1" strike="noStrike">
                <a:solidFill>
                  <a:srgbClr val="000000"/>
                </a:solidFill>
                <a:latin typeface="Lucida Sans Unicode"/>
              </a:rPr>
              <a:t>Chromosomal Mutation </a:t>
            </a: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– errors that involve either whole chromosomes or a large part of the chromosomes which can result in the production of offspring with too few or too many chrom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non-disjunction disorders are an example of th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9528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3) </a:t>
            </a: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Inheriting Mutations </a:t>
            </a: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– occur in the gametes and thus are passed to the offsp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he mutation will then become part of the offspring's genetic co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f the mutation is dominant then the phenotype will be seen; if it is recessive it will likely not be expressed for many gener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Sickle-Cell Anemia is an example of this, which is when there is not enough oxygen red blood cells no longer have a round shape but a C-shaped preventing them from moving through the blood vessel prope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Lucida Sans Unicode"/>
              </a:rPr>
              <a:t>Mutations can either occur by accident in nature or the by physical or chemical ag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Lucida Sans Unicode"/>
              </a:rPr>
              <a:t>Spontaneous mutations are a caused by incorrect copying of DNA during the replication of the chromosomes in either mitosis or meio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6011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DNA controls the activities of the cell (blueprints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ound in the nucleu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ranscribed into mRN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Rosalind Franklin – used a technique that used X-rays crystallography to photograph molecules and discovered that the pattern in a DNA molecule was a coil (helical) and that the diameter of a DNA was 2n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atson and Crick – used Franklin’s photographs and scale models to determine the structure of DNA (sugar-phosphate backbone and base pair centers); they also determined the base pair pattern – A with T and C with 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212760" y="30240"/>
            <a:ext cx="8486640" cy="12445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68360" y="981000"/>
            <a:ext cx="836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 building blocks of DNA are nucleotides, which are composed of nitrogenous base, phosphate group, and a sugar.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 phosphate and sugar will form the backbone of the DNA molecule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side backbone two nucleotides are paired together, each nucleotide is linked to a backbon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 sequence of nitrogenous bases is important for protein synthesis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F4AB-34EB-41E7-A295-62C18B8157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-12600" y="-30240"/>
            <a:ext cx="8474040" cy="11638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"/>
          <p:cNvSpPr/>
          <p:nvPr/>
        </p:nvSpPr>
        <p:spPr>
          <a:xfrm>
            <a:off x="5292720" y="1123920"/>
            <a:ext cx="37083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DNA is made of TWO strand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y run ANTI-PARALLEL—in opposite direction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9626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e nitrogen bases can either be purines, which has a double ring structure or pyrimidine, which has a single ring structur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denine &amp; Guanin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re purines (doubl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ring structure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ymine and Cytosin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re Pyrimidines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single ring structure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Picture 5" descr="DNA4"/>
          <p:cNvPicPr/>
          <p:nvPr/>
        </p:nvPicPr>
        <p:blipFill>
          <a:blip r:embed="rId1"/>
          <a:srcRect l="34480" t="27066" r="32763" b="51862"/>
          <a:stretch/>
        </p:blipFill>
        <p:spPr>
          <a:xfrm>
            <a:off x="3270240" y="1927080"/>
            <a:ext cx="1949400" cy="1413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t1.gstatic.com/images?q=tbn:ANd9GcSGGUh6-jURei1oMNw6-IWtzlxlMs5Qi2mrWMBdkM66DU-6MN6H"/>
          <p:cNvPicPr/>
          <p:nvPr/>
        </p:nvPicPr>
        <p:blipFill>
          <a:blip r:embed="rId2"/>
          <a:stretch/>
        </p:blipFill>
        <p:spPr>
          <a:xfrm>
            <a:off x="5219640" y="3357720"/>
            <a:ext cx="359892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78920" y="260280"/>
            <a:ext cx="381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enine pairs with thymine  (A-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ytosine pairs with guanine  (C-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known a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mplementary base pai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6731-2D57-4B45-92DB-9B417DD2DCD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5" descr="DNA4"/>
          <p:cNvPicPr/>
          <p:nvPr/>
        </p:nvPicPr>
        <p:blipFill>
          <a:blip r:embed="rId1"/>
          <a:stretch/>
        </p:blipFill>
        <p:spPr>
          <a:xfrm>
            <a:off x="3995640" y="149400"/>
            <a:ext cx="5038920" cy="599256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4"/>
          <p:cNvSpPr/>
          <p:nvPr/>
        </p:nvSpPr>
        <p:spPr>
          <a:xfrm>
            <a:off x="0" y="6118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8119"/>
                </a:solidFill>
                <a:uFillTx/>
                <a:latin typeface="Calibri"/>
                <a:hlinkClick r:id="rId2"/>
              </a:rPr>
              <a:t>http://www.youtube.com/watch?v=qy8dk5iS1f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6840" y="1295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Mutations are errors in D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They can have a positive, negative or no effect on an organis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They can be caused b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Exposure to chemical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Errors in cell division (mitosi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Viruses/ Bacte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Negative mutations in cells which continue to replicate can lead to canc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CA61-725E-4DD5-9F1E-324C9BC1EF9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Lucida Sans Unicode"/>
              </a:rPr>
              <a:t>1) Point Mutation </a:t>
            </a: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– Is a change in your nitrogenous base sequence by either base-pair substitutions, insertion and deletion that occurs when your DNA is being replicate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See Figure 2 on p. 23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16:30:27Z</dcterms:created>
  <dc:creator>Brian</dc:creator>
  <dc:description/>
  <dc:language>en-US</dc:language>
  <cp:lastModifiedBy>ntadmin</cp:lastModifiedBy>
  <cp:lastPrinted>2017-10-16T13:49:35Z</cp:lastPrinted>
  <dcterms:modified xsi:type="dcterms:W3CDTF">2017-10-16T13:54:57Z</dcterms:modified>
  <cp:revision>15</cp:revision>
  <dc:subject/>
  <dc:title>The Structure and History of DNA</dc:title>
</cp:coreProperties>
</file>